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669-348B-40A3-82AE-7122829B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5B6-8B16-40B6-9BD1-97434D22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70C-3C86-452A-B4B2-208C4B0B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137-64F9-4C6F-B2B3-03D56602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F2D-0319-49DF-BFE2-FEE719D8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630-DF56-4891-929C-CDB4D5D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841-C49E-404B-A44E-BE43FFE0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386-FB9E-4A24-8982-B4797167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9E6-5A86-4FEB-BC7A-14676D29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636-9E8C-4F81-A7C2-CDED6C0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2A5-1019-43BB-B7B2-8BF7C18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42E-FD1F-418F-BED8-4F8AB59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7FB8-6376-40C8-A79E-2E472BCE8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un6 CNI Analysis: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luding Remark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Summary of Systematic Uncertain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5760" y="3962520"/>
            <a:ext cx="43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azilev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HIC CNI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IC Spin Collaboratio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30,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/P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230400" y="3860640"/>
            <a:ext cx="9221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correlated from fill to fi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t normalization, 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3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.9%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5.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.1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t normalization (horiz profil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.1%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m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0.5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Jet normalization, syst (molecular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2%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2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Jet normalization, syst (other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3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.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9%,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11.6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1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. Profile (for experiment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2.0%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.6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0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Energy correc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2.4%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Tot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7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8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7.2%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13.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.9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6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30400" y="1346040"/>
            <a:ext cx="9144720" cy="21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rrelated from fill to f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6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(31 GeV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stat uncertainty in each fil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~4%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~5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horiz profi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d abo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5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vert profil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2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.6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0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correc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1.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m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2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ol_final_meta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458200" cy="3862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inal Polarizations in Run6</a:t>
            </a:r>
            <a:br>
              <a:rPr sz="44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for experime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1800" y="5181480"/>
            <a:ext cx="7209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yst.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7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7.2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/P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4.8%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13.5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8.3% (19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263680"/>
            <a:ext cx="1981080" cy="2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75120" y="189720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828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286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360" y="190512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828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ackup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riodByPeriodAsymmetry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4641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Chi2/NDF for fits over f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ol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Gol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6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9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8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4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4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2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5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5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/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9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30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50/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vs Jet, y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828800"/>
          <a:ext cx="8153640" cy="320040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165320"/>
                <a:gridCol w="1165320"/>
                <a:gridCol w="1165320"/>
                <a:gridCol w="1163520"/>
                <a:gridCol w="116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d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5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9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39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3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6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7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6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7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6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4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0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6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56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9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vs Jet, b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905120"/>
          <a:ext cx="8153640" cy="365760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165320"/>
                <a:gridCol w="1165320"/>
                <a:gridCol w="1165320"/>
                <a:gridCol w="1163520"/>
                <a:gridCol w="116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d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0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8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4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8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41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0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4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0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0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0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28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0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8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5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2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24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2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24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5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 energy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163000" cy="2738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38680" y="3429000"/>
            <a:ext cx="22100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4720" y="29718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1320" y="29718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429000"/>
            <a:ext cx="22096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2440" y="4648320"/>
            <a:ext cx="74408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 Layer” drifts in the ran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mk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d to middl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% for polarization cor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% uncertainty on polarization due to energy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certainties due to polar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Lfit_meta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2592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2209680"/>
            <a:ext cx="419112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ep size is finite, so we may miss maximum intensity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gligible (&lt;0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-ness of the profiles (L/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ge f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14400" y="1295280"/>
                <a:ext cx="1828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352680" y="1371600"/>
                <a:ext cx="762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180760" y="6400800"/>
            <a:ext cx="1959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: &lt;~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133720"/>
            <a:ext cx="778824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step size is 0.3-0.5m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worst case we can miss the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5/2=0.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verage c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8mm R~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we tak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formly distributed between 0 and 0.25m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0.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34080" y="4800600"/>
            <a:ext cx="660744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in P due to uncertainty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glig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HIC Polari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30400" y="4800600"/>
            <a:ext cx="306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C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7320" y="1295280"/>
            <a:ext cx="683892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Jet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olarization (diluted by molecular back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0.9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y be affected by other backg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9920" y="3048120"/>
            <a:ext cx="464292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Jet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y be affected by other backg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6400" y="3581280"/>
                <a:ext cx="26668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a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400800" y="5105520"/>
                <a:ext cx="13143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52680" y="-36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vibr0_meta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6483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vibr1_meta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143" name="vibr2_meta" descr=""/>
          <p:cNvPicPr/>
          <p:nvPr/>
        </p:nvPicPr>
        <p:blipFill>
          <a:blip r:embed="rId3"/>
          <a:stretch/>
        </p:blipFill>
        <p:spPr>
          <a:xfrm>
            <a:off x="152280" y="4940280"/>
            <a:ext cx="4743720" cy="1917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66040" y="685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680" y="365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1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960" y="5791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2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2000" y="190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3320" y="7621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. pr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67800" y="762120"/>
            <a:ext cx="131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vs L/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760" y="762120"/>
            <a:ext cx="12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. pr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90920"/>
            <a:ext cx="3124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see indication in data that A &gt; 2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= 1mm (2mm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6%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5638680"/>
            <a:ext cx="3738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due to target vibration is not s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-ness of profiles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/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t r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61084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R (by ~0.01) may be due to non-gaussian shape of polarization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is variation can be considered to be translated to global uncertainty (0.5% for jet normalization and 0.25% for experimen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fill level: syst. uncertainties are absorbed by stat. uncertaint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DF~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fit0_meta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1960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1371600"/>
            <a:ext cx="26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Run6 data for Yellow (~10000 poi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6520" y="4610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7339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r_meta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00720" cy="5638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3880" y="3809880"/>
            <a:ext cx="609624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80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48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3840" y="4191120"/>
            <a:ext cx="75096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Pro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blue is 0 – 0.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yellow is 0.03 – 0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Profile (assump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both blue and yellow is 0 – 0.17  (0 – 0.22 at 62 Ge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R&gt; = 0.085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0.085   (0.11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0.11 at 62 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848720" y="457200"/>
                <a:ext cx="761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ertainties due to pol.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85240" y="1413000"/>
            <a:ext cx="789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lobal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Jet normalization (only horiz. profile matter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un5: 0.5% for blue; 2.2% for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peri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.0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t. profile)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riz. is already included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un5: 4.0% for blue; 4.1% for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ill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. uncertainties from fit (hori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0% (ver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jet_pc_meta" descr=""/>
          <p:cNvPicPr/>
          <p:nvPr/>
        </p:nvPicPr>
        <p:blipFill>
          <a:blip r:embed="rId1"/>
          <a:stretch/>
        </p:blipFill>
        <p:spPr>
          <a:xfrm>
            <a:off x="1447920" y="0"/>
            <a:ext cx="6568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6520" y="40384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880" y="5715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/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5800" y="2251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Performance for 100 G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27880" cy="327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23120" y="3200400"/>
            <a:ext cx="14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n6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6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Run5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un5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5200" y="10666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asymmetry in Jet-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53160" y="4724280"/>
            <a:ext cx="173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c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7000" y="190512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92200" y="5334120"/>
            <a:ext cx="6610320" cy="12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erformance is very stable through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is small and its effect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am polarization is measured reliably by Jet-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/HJ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99120"/>
            <a:ext cx="70866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ization changed by ~18% compared to Run4/5 norm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range changed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? – Should be investig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o far, pC-Pol can be used only as a relative polarimeter:                      re-normalization for each set-up (Year) is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ergy corrections within a Year are considered: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.4% energy correction drift within a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rat0_meta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00720" cy="3289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5600" y="9144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at. error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638680" y="2209680"/>
            <a:ext cx="2951280" cy="1143000"/>
            <a:chOff x="5638680" y="2209680"/>
            <a:chExt cx="2951280" cy="1143000"/>
          </a:xfrm>
        </p:grpSpPr>
        <p:sp>
          <p:nvSpPr>
            <p:cNvPr id="61" name=""/>
            <p:cNvSpPr/>
            <p:nvPr/>
          </p:nvSpPr>
          <p:spPr>
            <a:xfrm>
              <a:off x="7238880" y="220968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8680" y="2590920"/>
              <a:ext cx="60984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248160" y="251460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6776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9240" y="1752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with Yellow b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867280" cy="398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1520" y="5334120"/>
            <a:ext cx="120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0640" y="18702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rget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2640" y="36576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7440" y="6019920"/>
            <a:ext cx="7453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erformance looks stable (target asymmetry is cons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bad fills exlcu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905120" cy="1585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53320" y="1219320"/>
            <a:ext cx="5946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inished scan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7654 and 767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–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n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llow period is aff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9960" y="5943600"/>
            <a:ext cx="4876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2/NDF in Yellow improved considerab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0.8/3 (CL=0.01) to 5.5/3 (CL=0.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at1_meta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01080" cy="32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4480" y="304812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– “go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 -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2133360" cy="16761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“Golden” vs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at3_meta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200720" cy="328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23480" y="5943600"/>
            <a:ext cx="4199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5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6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1.1/2 (CL=0.5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70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3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4.3/2 (CL=0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4840" y="5970600"/>
            <a:ext cx="4199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38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0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6.3/4 (CL=0.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26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7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1.3/3 (CL=0.7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fferent on ~3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48120"/>
            <a:ext cx="17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–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 – “Gold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1219320"/>
            <a:ext cx="22096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gaussian intensity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ue to target positioning problems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295280"/>
            <a:ext cx="2133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819520"/>
            <a:ext cx="9144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: use separate normalization for pC “Golden” fills and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: stat. uncertainty for normalization increases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(worst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 vs HJ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ol_all_meta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Performance for 31 G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66600" y="1676520"/>
            <a:ext cx="70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lue: looks n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is as low as for 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Yellow: background is abnormal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background may affect differentl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505320"/>
            <a:ext cx="79246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orrow blue pC normalization for yellow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: pC blue and yellow normalization is the same within 1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istent for “golden”; shifted by ~(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% for “other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: energy correction changed differently in blue and yellow, compared to 100 GeV (by ~5mk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%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600" y="5715000"/>
            <a:ext cx="841248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certainty for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ellow)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ue) for 31 GeV beam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%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% = 11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480" y="99072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See Kieran’s presentation from Nov. 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8:44:55Z</dcterms:created>
  <dc:creator>Alexander Bazilevsky</dc:creator>
  <dc:description/>
  <dc:language>en-US</dc:language>
  <cp:lastModifiedBy>Alexander Bazilevsky</cp:lastModifiedBy>
  <dcterms:modified xsi:type="dcterms:W3CDTF">2007-11-30T17:45:16Z</dcterms:modified>
  <cp:revision>113</cp:revision>
  <dc:subject/>
  <dc:title>Comments on pC systematic uncertainties</dc:title>
</cp:coreProperties>
</file>