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7BA-F462-4A25-A710-91A34100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908-577E-44E9-B97B-A3007A6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820-E8EF-4AF9-AC6B-E88D5A5B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2DA-C08D-4117-A08F-8C1A9C6B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534-7977-4272-9E38-AD99AF45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A1E-0C65-4AE4-9DAC-ECE0FD6C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938-F4C6-4F73-B5DD-46E7D5E4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DFB-5193-4B68-9E07-EA1DEA7E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6040" y="-3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172-CB36-4BA6-A69B-FD12C768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54A-6AAE-46C1-9518-B9960C0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F48-229E-446F-9521-D24DFC2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66A-6BF4-4E55-8302-43E039F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A29-DCDC-43B9-B102-AC52C7D5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28600" y="6494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B66-466E-4080-ABA2-5177092350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73160" y="649116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Meeting – November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27000" y="6515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0" b="12972"/>
          <a:stretch/>
        </p:blipFill>
        <p:spPr>
          <a:xfrm>
            <a:off x="8101080" y="42840"/>
            <a:ext cx="1042920" cy="528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1024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89532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5424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Jet Polarimeter Results from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54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ony Broo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8920" y="3786120"/>
            <a:ext cx="4648320" cy="270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8920" y="952560"/>
            <a:ext cx="4648320" cy="2703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Run 6 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4960" y="907560"/>
            <a:ext cx="3200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whole runn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es for Yellow (top) and Blue (bottom) runni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beam asymmetries for Yellow (top) and Blue (bottom) b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nly uses data from 1-4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55480" y="3971880"/>
            <a:ext cx="63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8880" y="1162080"/>
            <a:ext cx="851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46280" y="127476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65960" y="1087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62720" y="3949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8280" y="3946680"/>
            <a:ext cx="947880" cy="220788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48280" y="108252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arization Fill By Fill (100 Ge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2440" y="54975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fill by fill analysis using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2320" y="1281240"/>
            <a:ext cx="42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5240" y="958680"/>
            <a:ext cx="724356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es By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80996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By Fill asymme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able.  Fluctuation is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520" y="1055520"/>
            <a:ext cx="8253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09560" y="922320"/>
            <a:ext cx="5580360" cy="3245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Ru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273560"/>
            <a:ext cx="8229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jet is consistent between years, we can compare target asymme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symmetries should be constant as Target polarization is 92.4% +/- 1.8% for both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in good compa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80560" y="1459080"/>
            <a:ext cx="145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Corrected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ackground assuming background is asymmetry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5600" y="2139840"/>
            <a:ext cx="59086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asymXerror_10000_shuf_3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794040" y="151920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symXerror_10000_shuf_3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50040" y="156852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asymXerror_10000_shuf_5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849840" y="1542960"/>
            <a:ext cx="2546280" cy="41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asymXerror_10000_shuf_5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83160" y="1585800"/>
            <a:ext cx="2548080" cy="417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630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Jet Status in Ru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es &amp; Polar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by 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ch Shuff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Beam Asymmetries &amp;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95400" y="4732200"/>
            <a:ext cx="2757600" cy="1738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52560" y="4572000"/>
            <a:ext cx="70632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sources of backg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Molecular Hydro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assume unpolarized, then beam and target asymmetries differ.  Accounted for in polarization of target. (96%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lastic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for target, backward for beam so can be different.  Estimate possible asymm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other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utes both beam and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sidering one beam, other is spin ave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ing from target to our acceptance (light green) is backward scattering from target (or forward scattering from unpolarize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—so no spin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tudy Non-Ela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760" y="1065240"/>
            <a:ext cx="3511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67200" y="1119240"/>
            <a:ext cx="5089320" cy="5118120"/>
            <a:chOff x="3967200" y="1119240"/>
            <a:chExt cx="5089320" cy="51181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967200" y="1119240"/>
              <a:ext cx="50893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919560" y="137304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01040" y="135108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07240" y="26463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2880" y="2660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29440" y="3940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9400" y="3938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97600" y="5191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51894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24212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172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1208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168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428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432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906040" y="267012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3608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5336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340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988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984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09800" y="2055600"/>
            <a:ext cx="639720" cy="604800"/>
            <a:chOff x="3709800" y="2055600"/>
            <a:chExt cx="639720" cy="604800"/>
          </a:xfrm>
        </p:grpSpPr>
        <p:sp>
          <p:nvSpPr>
            <p:cNvPr id="200" name=""/>
            <p:cNvSpPr/>
            <p:nvPr/>
          </p:nvSpPr>
          <p:spPr>
            <a:xfrm flipV="1">
              <a:off x="3749040" y="221760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735720" y="205560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0800000">
              <a:off x="3709800" y="2086200"/>
              <a:ext cx="639720" cy="13140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13120" y="1084320"/>
            <a:ext cx="568440" cy="534600"/>
            <a:chOff x="3813120" y="1084320"/>
            <a:chExt cx="568440" cy="534600"/>
          </a:xfrm>
        </p:grpSpPr>
        <p:sp>
          <p:nvSpPr>
            <p:cNvPr id="204" name=""/>
            <p:cNvSpPr/>
            <p:nvPr/>
          </p:nvSpPr>
          <p:spPr>
            <a:xfrm flipV="1">
              <a:off x="3825720" y="122724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13120" y="108432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706200" y="3205800"/>
            <a:ext cx="726120" cy="676800"/>
            <a:chOff x="3706200" y="3205800"/>
            <a:chExt cx="726120" cy="676800"/>
          </a:xfrm>
        </p:grpSpPr>
        <p:sp>
          <p:nvSpPr>
            <p:cNvPr id="207" name=""/>
            <p:cNvSpPr/>
            <p:nvPr/>
          </p:nvSpPr>
          <p:spPr>
            <a:xfrm flipV="1">
              <a:off x="3782880" y="35082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768120" y="337140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9885600">
              <a:off x="3708360" y="3296880"/>
              <a:ext cx="709200" cy="111240"/>
            </a:xfrm>
            <a:prstGeom prst="rtTriangl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774720" y="968400"/>
            <a:ext cx="2444760" cy="281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5938920" y="1036800"/>
            <a:ext cx="2444760" cy="281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0" t="0" r="49443" b="0"/>
          <a:stretch/>
        </p:blipFill>
        <p:spPr>
          <a:xfrm>
            <a:off x="3503520" y="957240"/>
            <a:ext cx="2444760" cy="2816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or different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1257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120" y="2801880"/>
            <a:ext cx="17906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72920" y="1985760"/>
            <a:ext cx="639720" cy="604800"/>
            <a:chOff x="1672920" y="1985760"/>
            <a:chExt cx="639720" cy="604800"/>
          </a:xfrm>
        </p:grpSpPr>
        <p:sp>
          <p:nvSpPr>
            <p:cNvPr id="221" name=""/>
            <p:cNvSpPr/>
            <p:nvPr/>
          </p:nvSpPr>
          <p:spPr>
            <a:xfrm flipV="1">
              <a:off x="1712160" y="214776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698840" y="198576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0800000">
              <a:off x="1672920" y="2016360"/>
              <a:ext cx="639720" cy="13140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33840" y="2708280"/>
            <a:ext cx="568440" cy="534600"/>
            <a:chOff x="4533840" y="2708280"/>
            <a:chExt cx="568440" cy="534600"/>
          </a:xfrm>
        </p:grpSpPr>
        <p:sp>
          <p:nvSpPr>
            <p:cNvPr id="225" name=""/>
            <p:cNvSpPr/>
            <p:nvPr/>
          </p:nvSpPr>
          <p:spPr>
            <a:xfrm flipV="1">
              <a:off x="4546440" y="285120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533840" y="270828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79640" y="2255040"/>
            <a:ext cx="726120" cy="676800"/>
            <a:chOff x="7379640" y="2255040"/>
            <a:chExt cx="726120" cy="676800"/>
          </a:xfrm>
        </p:grpSpPr>
        <p:sp>
          <p:nvSpPr>
            <p:cNvPr id="228" name=""/>
            <p:cNvSpPr/>
            <p:nvPr/>
          </p:nvSpPr>
          <p:spPr>
            <a:xfrm flipV="1">
              <a:off x="7456320" y="2557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441560" y="242064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9885600">
              <a:off x="7381800" y="2346120"/>
              <a:ext cx="709200" cy="11124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100 G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1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1480" y="1441440"/>
            <a:ext cx="239076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in blue similar to 1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ed green are signal s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3146400" y="949320"/>
            <a:ext cx="5997600" cy="5270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4880" y="9777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52920" y="1612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52920" y="22510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2000" y="2890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9680" y="35258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9680" y="41641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6040" y="48546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4080" y="54896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Blue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4311720"/>
            <a:ext cx="840888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in blue beam is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Blue beam polar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4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69240" y="16016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093760" y="993600"/>
            <a:ext cx="57499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Problem in 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1840" y="1441440"/>
            <a:ext cx="2425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much larger in Yellow b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is not entirely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ffect beam polariza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2968560" y="984240"/>
            <a:ext cx="6175440" cy="5424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4880" y="1149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52920" y="17845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52920" y="24224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2000" y="30621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9680" y="36972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9680" y="4335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50259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4080" y="56610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03280" y="1047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Yellow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92084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has large background which clearly affects measured asymmetry of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imply that effective target polarization is different from 92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extraction of beam polarization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get elastic pr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79200"/>
            <a:ext cx="4811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relativistic kinematics,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ss of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F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related giving us a “banana”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ally scattered protons will have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lation, i.e.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rip 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1000" y="4863960"/>
            <a:ext cx="249264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87126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2271" t="0" r="74850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24541" t="0" r="62585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36807" t="0" r="5030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rcRect l="49082" t="0" r="3803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61353" t="0" r="25768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73623" t="0" r="13498" b="67137"/>
          <a:stretch/>
        </p:blipFill>
        <p:spPr>
          <a:xfrm>
            <a:off x="6041880" y="993600"/>
            <a:ext cx="2944800" cy="529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82040" y="609768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5773320" y="1314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803920" y="38653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8240" y="347184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459080" y="1666800"/>
            <a:ext cx="2774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symme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4813200"/>
            <a:ext cx="91440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and yellow beam asymmetrie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symmetries are quite different, due to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ellow target asymmetry is unreliable at 31 GeV, we must use Blue beam to normali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additional uncertainty due to this more, but is ~2.2  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08160" y="993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02600" y="6035760"/>
            <a:ext cx="155520" cy="1555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Non-Elastic at 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8000" y="1065240"/>
            <a:ext cx="35114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ame as at 100 Ge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44800" y="1119240"/>
            <a:ext cx="5089680" cy="5118120"/>
            <a:chOff x="3844800" y="1119240"/>
            <a:chExt cx="5089680" cy="51181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844800" y="1119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797520" y="1373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79000" y="1351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85200" y="2646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0840" y="2660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7400" y="394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77360" y="3938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75560" y="5191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7400" y="5189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10244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204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7240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9460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2464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66000" y="2670120"/>
            <a:ext cx="939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640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1368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4372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020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2016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76800" y="1031760"/>
            <a:ext cx="2428920" cy="2849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517920" y="1030320"/>
            <a:ext cx="2428920" cy="2849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97040" y="974880"/>
            <a:ext cx="2428920" cy="2849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7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or different regions: 31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74840" y="11365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1120" y="2595600"/>
            <a:ext cx="1565280" cy="67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138400" y="195264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20760" y="1763280"/>
            <a:ext cx="77652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2087640" y="1799280"/>
            <a:ext cx="828720" cy="15372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95960" y="282888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378320" y="263952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537320" y="2309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20040" y="212040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9885600">
            <a:off x="7449840" y="2017440"/>
            <a:ext cx="828720" cy="15408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31 GeV for 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a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s at 100 GeV are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normalizing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for target asymmetry consistent with Run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 similar to Ru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 at 31 GeV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beam has low background, and will be used to normalize blu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beam has high backgroun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from Jet not rel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lue beam to normalize yellow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uncertainty due t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04720" y="1054080"/>
            <a:ext cx="5810400" cy="3905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65760" y="3922560"/>
            <a:ext cx="3162240" cy="25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DC and TDC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trigger timing, so must acount for when trigger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 of baseline from max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DC at ADC(TDC)=½ADCma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7320" y="4330800"/>
            <a:ext cx="2857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69920" y="2438280"/>
            <a:ext cx="250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0640"/>
            <a:ext cx="0" cy="27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7840" y="463392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560" y="41259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20" y="2259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 Runs for Run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.4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506.4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05      (End of 200 GeV run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12.4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06    (six months after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for all calibration runs, detector 5 is not working at all.  Detector 5 died ~ Apr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5 calibrations are different from Run6, and so cannot be used for data before  April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method as for Run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s we have 4 possible peaks, for each channel we have at most 4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74840" y="1633680"/>
            <a:ext cx="4700520" cy="6206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509840" y="3270240"/>
            <a:ext cx="6226200" cy="959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459080" y="4175280"/>
            <a:ext cx="6092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Jet Status During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an with only one beam on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eam was displaced vertically and horizont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d (detector) out of six died on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nergy calibration for this sensor in Run6, so excluded from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0040" y="4059360"/>
            <a:ext cx="3794400" cy="239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6120" y="562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70480" y="1065240"/>
            <a:ext cx="42163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DC distribution, extract peak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etectors have Gd and Am source (includes dead detector), 3 have only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eak structure due to different entrance window thic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thod described in the Run5 analysis note, we get energy calibration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1904401_peakADC.gif"/>
          <p:cNvPicPr/>
          <p:nvPr/>
        </p:nvPicPr>
        <p:blipFill>
          <a:blip r:embed="rId1"/>
          <a:stretch/>
        </p:blipFill>
        <p:spPr>
          <a:xfrm>
            <a:off x="203040" y="3772080"/>
            <a:ext cx="4034160" cy="2687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Section0.gif"/>
          <p:cNvPicPr/>
          <p:nvPr/>
        </p:nvPicPr>
        <p:blipFill>
          <a:blip r:embed="rId2"/>
          <a:stretch/>
        </p:blipFill>
        <p:spPr>
          <a:xfrm>
            <a:off x="150840" y="952560"/>
            <a:ext cx="4129200" cy="2751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1904401_calibconst.gif"/>
          <p:cNvPicPr/>
          <p:nvPr/>
        </p:nvPicPr>
        <p:blipFill>
          <a:blip r:embed="rId3"/>
          <a:stretch/>
        </p:blipFill>
        <p:spPr>
          <a:xfrm>
            <a:off x="4853160" y="3710160"/>
            <a:ext cx="4127400" cy="2749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H="1">
            <a:off x="4586760" y="3967200"/>
            <a:ext cx="3326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 Constants (Me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610884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84000" y="568476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9240" y="223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73320" y="148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82720" y="1628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Compare measured ToF (TDC*2.38 ns) with expected ToF from a proton with the measured energy assuming non relativistic 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lot histogram of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extract calibration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ty is one step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28880" y="3125880"/>
            <a:ext cx="36511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80656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79064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8160" y="3822840"/>
            <a:ext cx="793764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24280" y="33130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-127080" y="117036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302000" y="315468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2488680" y="1031400"/>
            <a:ext cx="4921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9196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5040" y="2044800"/>
            <a:ext cx="316080" cy="4363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3667680" y="3533040"/>
            <a:ext cx="31572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29560" y="4995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493160" y="3469320"/>
            <a:ext cx="31608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379000">
            <a:off x="5063760" y="3548160"/>
            <a:ext cx="393840" cy="293760"/>
          </a:xfrm>
          <a:prstGeom prst="rightArrow">
            <a:avLst>
              <a:gd name="adj1" fmla="val 50000"/>
              <a:gd name="adj2" fmla="val 840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29336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dots are for yellow beam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red dots which are the other beam, and not well calib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left to right are the 6 detectors (1 is dead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at left is in very low energy protons, which have problems due to energy loss at the entrance window of silicon, and due to magnetic field affecting traveled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457440" y="1025640"/>
            <a:ext cx="5686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424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per strip (Yellow beam, 100 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60640" y="1001880"/>
            <a:ext cx="5283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1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. Error due to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37339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sult, we use two strips correlated with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ion factor due to molecular hydrogen component reduces target polarization (main background source) from 96% to 92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is assumes molecular hydrogen component is not polarized.  If background is polarized, directly affect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systematic uncertainty in polarization by varying amount of background (i.e use fewer or more stri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show increase in ratio as more background is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370400" y="3689280"/>
            <a:ext cx="4773600" cy="2779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370400" y="933480"/>
            <a:ext cx="4773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Run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9844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ning on showing this Friday, but just for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g used maximum difference as systematic error (1.1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un6, this would give 1.8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517920" y="1017720"/>
            <a:ext cx="5326200" cy="2544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517920" y="3749760"/>
            <a:ext cx="5278320" cy="264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496360" y="176544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12160" y="2158920"/>
            <a:ext cx="17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750160" y="1765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79320" y="1776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00" y="33480"/>
            <a:ext cx="90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t that inelastic effect is 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31 GeV any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are very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rrect both results for backgrounds assuming 0 asymmetry in background, results agree within s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190440" y="2616120"/>
            <a:ext cx="3365640" cy="3876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3440160" y="2631960"/>
            <a:ext cx="3365280" cy="3876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385280" y="2278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23162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25520" y="3794040"/>
            <a:ext cx="450720" cy="14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9160" y="4317840"/>
            <a:ext cx="249084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33640" y="411804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92520" y="3762360"/>
            <a:ext cx="451080" cy="14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16520" y="4286160"/>
            <a:ext cx="249048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00640" y="408636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s (Banana plots):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9162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ana cut of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ed around proton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5800" y="1201680"/>
            <a:ext cx="6229080" cy="444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89640" y="934920"/>
            <a:ext cx="1854360" cy="117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21720" y="552780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81040" y="129564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per strip (Blue be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60640" y="1144440"/>
            <a:ext cx="5283360" cy="5080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38320" y="6064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0280" y="138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55160" y="138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8760" y="134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6120" y="140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5160" y="141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49120" y="14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14640" y="1308240"/>
            <a:ext cx="5089680" cy="5118120"/>
            <a:chOff x="3914640" y="1308240"/>
            <a:chExt cx="5089680" cy="51181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0" t="21460" r="57770" b="34342"/>
            <a:stretch/>
          </p:blipFill>
          <p:spPr>
            <a:xfrm>
              <a:off x="3914640" y="1308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67360" y="1562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48840" y="1540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55040" y="2835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0680" y="2849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7240" y="4129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47200" y="4127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45400" y="538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7240" y="5378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4880"/>
            <a:ext cx="5334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mple square roo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wo different a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Target polarized, beam un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arget unpolarized, beam 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between two asymmetries, scaled by target polarization, gives beam pol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2.4% +/- 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2560" y="1488960"/>
            <a:ext cx="3841920" cy="943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82720" y="4659480"/>
            <a:ext cx="3241800" cy="917280"/>
            <a:chOff x="1782720" y="4659480"/>
            <a:chExt cx="3241800" cy="917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701800" y="4659480"/>
              <a:ext cx="1401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068720" y="5008680"/>
              <a:ext cx="9558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782720" y="4900680"/>
              <a:ext cx="95580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5840" y="2585880"/>
            <a:ext cx="2986200" cy="361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0800000">
            <a:off x="5689080" y="28710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Energy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51577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sult, use only 1-4 MeV 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 4 GeV, protons may punch through detector, and so reconstructed energy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1 GeV, ToF calibration is not reliable, as particle path is affected by magnetic hold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35680" y="1843200"/>
            <a:ext cx="2986200" cy="360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24720" y="2070000"/>
            <a:ext cx="1293840" cy="291636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742000" y="23184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1:25:31Z</dcterms:created>
  <dc:creator>Kieran </dc:creator>
  <dc:description/>
  <dc:language>en-US</dc:language>
  <cp:lastModifiedBy>Kieran </cp:lastModifiedBy>
  <dcterms:modified xsi:type="dcterms:W3CDTF">2007-11-15T13:58:35Z</dcterms:modified>
  <cp:revision>49</cp:revision>
  <dc:subject/>
  <dc:title>Slide 1</dc:title>
</cp:coreProperties>
</file>