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png" ContentType="image/png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CF52-8914-4F58-9809-00C27693A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95E4-1796-40AF-80A1-D16A4D6A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C78C-3FBE-4EE6-8B40-1FB50DA43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3E1C-B7AD-401A-8FFC-AAB4BCEBB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1552-819C-4BDD-940F-168DD29E2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4CBB-E341-40ED-A87D-6F4A7CFC2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A1C4-A343-4289-BDD5-C2FD42427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C9FD-5556-4091-B2C4-EE875959D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727F-2E64-4F89-8083-3BC24A58E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2391-6ECC-4D66-B1DF-55ACA5F0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5676-8BAF-40A5-9FD7-83BB9A09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C553-FC4E-455C-80CB-6C1EC371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75ADF-F864-49B5-903D-246A1A4B45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un6 CNI Analysis: 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oncluding Remarks 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nd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Summary of Systematic Uncertainti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35760" y="3962520"/>
            <a:ext cx="439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Bazilevs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RHIC CNI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HIC Spin Collaboration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vember 30, 200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P/P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-230400" y="3860640"/>
            <a:ext cx="922104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(correlated from fill to fi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et normalization, st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2.3%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2.4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5.9%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6600"/>
                </a:solidFill>
                <a:latin typeface="Times New Roman"/>
              </a:rPr>
              <a:t>5.9%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3.1%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2.8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et normalization (horiz profile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1.1%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ame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0.5%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2.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Jet normalization, syst (molecular)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2%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2%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2.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Jet normalization, syst (other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.3%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1.5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1.9%,</a:t>
            </a:r>
            <a:r>
              <a:rPr b="0" lang="en-US" sz="1800" spc="-1" strike="noStrike">
                <a:solidFill>
                  <a:srgbClr val="ff6600"/>
                </a:solidFill>
                <a:latin typeface="Times New Roman"/>
              </a:rPr>
              <a:t>11.6%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2.1%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2.1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. Profile (for experiment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2.0%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2.6%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4.0%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4.1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Energy correction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2.4%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1.2%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inclu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 Total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4.7%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4.8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7.2%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6600"/>
                </a:solidFill>
                <a:latin typeface="Times New Roman"/>
              </a:rPr>
              <a:t>13.5%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5.9%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6.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-230400" y="1346040"/>
            <a:ext cx="9144720" cy="21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correlated from fill to fi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6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 Ge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(31 GeV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0 G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C stat uncertainty in each fill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~4%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~5%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-3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horiz profil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d abov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.5%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4.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vert profile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2.0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2.6%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4.0%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4.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ergy correction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1.2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ame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.2%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1.6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95680" y="1295280"/>
            <a:ext cx="0" cy="556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1295280"/>
            <a:ext cx="0" cy="556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267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2096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ol_final_meta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458200" cy="38624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Final Polarizations in Run6</a:t>
            </a:r>
            <a:br>
              <a:rPr sz="44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(for experiment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1800" y="5181480"/>
            <a:ext cx="72093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yst. uncertainti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P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4.7%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7.2% for 31 Ge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66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ff66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/P</a:t>
            </a:r>
            <a:r>
              <a:rPr b="0" lang="en-US" sz="2400" spc="-1" strike="noStrike" baseline="-25000">
                <a:solidFill>
                  <a:srgbClr val="ff66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4.8% 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(13.5% for 31 Ge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 8.3% (19% for 31 Ge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86400" y="2263680"/>
            <a:ext cx="1981080" cy="22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96080" y="2286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75120" y="1897200"/>
            <a:ext cx="11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 G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315200" y="1828800"/>
            <a:ext cx="98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1 G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19320" y="22860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429000" y="2286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33360" y="1905120"/>
            <a:ext cx="11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 G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05320" y="1828800"/>
            <a:ext cx="98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1 G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Backup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eriodByPeriodAsymmetry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464160" cy="43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pC/Jet: Chi2/NDF for fits over fil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871560"/>
                <a:gridCol w="870120"/>
                <a:gridCol w="871560"/>
                <a:gridCol w="869760"/>
                <a:gridCol w="871560"/>
                <a:gridCol w="870120"/>
                <a:gridCol w="871560"/>
              </a:tblGrid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i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old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Oth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Gold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Oth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/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/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5/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2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16/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19/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/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/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7/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2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8/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11/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/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/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14/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14/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2/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6/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2/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0.5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0.5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1/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1/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0/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9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8/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19/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30/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50/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 vs Jet, yel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09480" y="1828800"/>
          <a:ext cx="8153640" cy="3200400"/>
        </p:xfrm>
        <a:graphic>
          <a:graphicData uri="http://schemas.openxmlformats.org/drawingml/2006/table">
            <a:tbl>
              <a:tblPr/>
              <a:tblGrid>
                <a:gridCol w="1165320"/>
                <a:gridCol w="1163520"/>
                <a:gridCol w="1165320"/>
                <a:gridCol w="1165320"/>
                <a:gridCol w="1165320"/>
                <a:gridCol w="1163520"/>
                <a:gridCol w="116532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i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lden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ers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451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551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494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603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439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538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558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615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568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618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555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614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574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664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574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664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503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635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503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635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541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630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568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656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503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595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 vs Jet, bl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09480" y="1905120"/>
          <a:ext cx="8153640" cy="3657600"/>
        </p:xfrm>
        <a:graphic>
          <a:graphicData uri="http://schemas.openxmlformats.org/drawingml/2006/table">
            <a:tbl>
              <a:tblPr/>
              <a:tblGrid>
                <a:gridCol w="1165320"/>
                <a:gridCol w="1163520"/>
                <a:gridCol w="1165320"/>
                <a:gridCol w="1165320"/>
                <a:gridCol w="1165320"/>
                <a:gridCol w="1163520"/>
                <a:gridCol w="116532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i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lden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ers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530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0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586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549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0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582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415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0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609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0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542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0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631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630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0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606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0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505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0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643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512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0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637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537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0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652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0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282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1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509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0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538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653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557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652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521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655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516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0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624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0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522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0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624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0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533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641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556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633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511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649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pC energy corr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8163000" cy="27385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638680" y="3429000"/>
            <a:ext cx="2210040" cy="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174720" y="2971800"/>
            <a:ext cx="128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 G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31320" y="2971800"/>
            <a:ext cx="128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 G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71600" y="3429000"/>
            <a:ext cx="2209680" cy="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52440" y="4648320"/>
            <a:ext cx="7440840" cy="11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ad Layer” drifts in the rang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mkg/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red to middle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4% for polarization corre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4% uncertainty on polarization due to energy cor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certainties due to polarization pro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Lfit_meta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3625920" cy="38098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495680" y="2209680"/>
            <a:ext cx="4191120" cy="40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termin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>
              <a:lnSpc>
                <a:spcPct val="8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step size is finite, so we may miss maximum intensity po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>
              <a:lnSpc>
                <a:spcPct val="8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egligible (&lt;0.2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406440"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 vib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&lt;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406440"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-ness of the profiles (L/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ange f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&lt;0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914400" y="1295280"/>
                <a:ext cx="182880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L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x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R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352680" y="1371600"/>
                <a:ext cx="7621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5180760" y="6400800"/>
            <a:ext cx="19591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: &lt;~1.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determ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133720"/>
            <a:ext cx="7788240" cy="20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 step size is 0.3-0.5m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worst case we can miss the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) b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.5/2=0.25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verage cas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0.8mm R~0.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0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if we tak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niformly distributed between 0 and 0.25mm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0.2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34080" y="4800600"/>
            <a:ext cx="6607440" cy="510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certainty in P due to uncertainty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neglig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RHIC Polarime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30400" y="4800600"/>
            <a:ext cx="30636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pC-Po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m pola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e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e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57320" y="1295280"/>
            <a:ext cx="6838920" cy="15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HJet-Po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t polarization (diluted by molecular backgrou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Jet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Targe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~0.92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Jet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Targe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t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Je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May be affected by other backgroun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79920" y="3048120"/>
            <a:ext cx="4642920" cy="15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HJet-Po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m pola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Je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e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Je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e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May be affected by other backgroun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5486400" y="3581280"/>
                <a:ext cx="266688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am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Jet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r>
                          <m:rPr>
                            <m:lit/>
                            <m:nor/>
                          </m:rPr>
                          <m:t xml:space="preserve">e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Jet</m:t>
                        </m:r>
                      </m:sup>
                    </m:sSubSup>
                    <m:f>
                      <m:num>
                        <m:sSubSup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am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et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et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sSubSup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rg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et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et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6400800" y="5105520"/>
                <a:ext cx="131436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orm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pC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am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et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am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pC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352680" y="-36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rget vib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vibr0_meta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4648320" cy="1828800"/>
          </a:xfrm>
          <a:prstGeom prst="rect">
            <a:avLst/>
          </a:prstGeom>
          <a:ln w="0">
            <a:noFill/>
          </a:ln>
        </p:spPr>
      </p:pic>
      <p:pic>
        <p:nvPicPr>
          <p:cNvPr id="142" name="vibr1_meta" descr=""/>
          <p:cNvPicPr/>
          <p:nvPr/>
        </p:nvPicPr>
        <p:blipFill>
          <a:blip r:embed="rId2"/>
          <a:stretch/>
        </p:blipFill>
        <p:spPr>
          <a:xfrm>
            <a:off x="152280" y="3048120"/>
            <a:ext cx="4572000" cy="1836720"/>
          </a:xfrm>
          <a:prstGeom prst="rect">
            <a:avLst/>
          </a:prstGeom>
          <a:ln w="0">
            <a:noFill/>
          </a:ln>
        </p:spPr>
      </p:pic>
      <p:pic>
        <p:nvPicPr>
          <p:cNvPr id="143" name="vibr2_meta" descr=""/>
          <p:cNvPicPr/>
          <p:nvPr/>
        </p:nvPicPr>
        <p:blipFill>
          <a:blip r:embed="rId3"/>
          <a:stretch/>
        </p:blipFill>
        <p:spPr>
          <a:xfrm>
            <a:off x="152280" y="4940280"/>
            <a:ext cx="4743720" cy="19177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666040" y="68580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(x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505680" y="36576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=1 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57960" y="57913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=2 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82000" y="1905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=0 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03320" y="762120"/>
            <a:ext cx="107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. pr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367800" y="762120"/>
            <a:ext cx="1312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 vs L/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2760" y="762120"/>
            <a:ext cx="121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um. pr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4120" y="2590920"/>
            <a:ext cx="312408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don’t see indication in data that A &gt; 2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= 1mm (2mm)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.6% (1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181480" y="5638680"/>
            <a:ext cx="37386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certainty due to target vibration is not siz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uss-ness of profiles 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L/L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fit rang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105520"/>
            <a:ext cx="8610840" cy="15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tion in R (by ~0.01) may be due to non-gaussian shape of polarization 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406440">
              <a:lnSpc>
                <a:spcPct val="85000"/>
              </a:lnSpc>
              <a:spcAft>
                <a:spcPts val="751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This variation can be considered to be translated to global uncertainty (0.5% for jet normalization and 0.25% for experiment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40644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fill level: syst. uncertainties are absorbed by stat. uncertainty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NDF~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fit0_meta" descr=""/>
          <p:cNvPicPr/>
          <p:nvPr/>
        </p:nvPicPr>
        <p:blipFill>
          <a:blip r:embed="rId1"/>
          <a:stretch/>
        </p:blipFill>
        <p:spPr>
          <a:xfrm>
            <a:off x="3124080" y="1828800"/>
            <a:ext cx="2919600" cy="30481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276720" y="1371600"/>
            <a:ext cx="268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Run6 data for Yellow (~10000 poin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66520" y="4610160"/>
            <a:ext cx="4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373392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 distrib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r_meta" descr=""/>
          <p:cNvPicPr/>
          <p:nvPr/>
        </p:nvPicPr>
        <p:blipFill>
          <a:blip r:embed="rId1"/>
          <a:stretch/>
        </p:blipFill>
        <p:spPr>
          <a:xfrm>
            <a:off x="1828800" y="1219320"/>
            <a:ext cx="5400720" cy="56386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523880" y="3809880"/>
            <a:ext cx="6096240" cy="304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8800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5548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53840" y="4191120"/>
            <a:ext cx="75096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izontal Profi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tion in blue is 0 – 0.1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tion in yellow is 0.03 – 0.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tical Profile (assumption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tion in both blue and yellow is 0 – 0.17  (0 – 0.22 at 62 GeV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&lt;R&gt; = 0.085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</a:t>
            </a: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0.085   (0.11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</a:t>
            </a: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0.11 at 62 Ge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7848720" y="457200"/>
                <a:ext cx="7617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certainties due to pol. prof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85240" y="1413000"/>
            <a:ext cx="7894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Global uncertainti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Jet normalization (only horiz. profile matters)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1.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Run5: 0.5% for blue; 2.2% for yel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xperiment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2.0%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ert. profile);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riz. is already included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Run5: 4.0% for blue; 4.1% for yel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Fill uncertainti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. uncertainties from fit (horiz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.0% (ver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jet_pc_meta" descr=""/>
          <p:cNvPicPr/>
          <p:nvPr/>
        </p:nvPicPr>
        <p:blipFill>
          <a:blip r:embed="rId1"/>
          <a:stretch/>
        </p:blipFill>
        <p:spPr>
          <a:xfrm>
            <a:off x="1447920" y="0"/>
            <a:ext cx="656892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686520" y="4038480"/>
            <a:ext cx="5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880" y="57150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/J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95800" y="22510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HJet Performance for 100 Ge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5627880" cy="32734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823120" y="3200400"/>
            <a:ext cx="145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un6 B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6 Yel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Run5 B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Run5 Yel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15200" y="1066680"/>
            <a:ext cx="365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 asymmetry in Jet-P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53160" y="4724280"/>
            <a:ext cx="173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ecoi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97000" y="1905120"/>
            <a:ext cx="968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Je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92200" y="5334120"/>
            <a:ext cx="6610320" cy="1241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t performance is very stable through the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ground is small and its effect o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Je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ar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sm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eam polarization is measured reliably by Jet-P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pC/HJ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19320" y="5199120"/>
            <a:ext cx="7086600" cy="16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rmalization changed by ~18% compared to Run4/5 norm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range changed in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Bea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? – Should be investig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So far, pC-Pol can be used only as a relative polarimeter:                      re-normalization for each set-up (Year) is necess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Energy corrections within a Year are considered: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2.4% energy correction drift within a Y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rat0_meta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200720" cy="3289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045600" y="914400"/>
            <a:ext cx="328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stat. errors inclu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5638680" y="2209680"/>
            <a:ext cx="2951280" cy="1143000"/>
            <a:chOff x="5638680" y="2209680"/>
            <a:chExt cx="2951280" cy="1143000"/>
          </a:xfrm>
        </p:grpSpPr>
        <p:sp>
          <p:nvSpPr>
            <p:cNvPr id="61" name=""/>
            <p:cNvSpPr/>
            <p:nvPr/>
          </p:nvSpPr>
          <p:spPr>
            <a:xfrm>
              <a:off x="7238880" y="2209680"/>
              <a:ext cx="1351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blem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638680" y="2590920"/>
              <a:ext cx="609840" cy="761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6248160" y="2514600"/>
              <a:ext cx="9903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1677600" y="182880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259240" y="175248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Yel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HJet with Yellow be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5867280" cy="39848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401520" y="5334120"/>
            <a:ext cx="1206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iod 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10640" y="1870200"/>
            <a:ext cx="24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arget asym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12640" y="3657600"/>
            <a:ext cx="232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m asym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07440" y="6019920"/>
            <a:ext cx="74530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t performance looks stable (target asymmetry is consta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pC/Jet: bad fills exlcud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1905120" cy="15858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353320" y="1219320"/>
            <a:ext cx="5946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finished scans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us 7654 and 767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– Exclu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Only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ellow period is affect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99960" y="5943600"/>
            <a:ext cx="487620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2/NDF in Yellow improved considerably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10.8/3 (CL=0.01) to 5.5/3 (CL=0.1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rat1_meta" descr=""/>
          <p:cNvPicPr/>
          <p:nvPr/>
        </p:nvPicPr>
        <p:blipFill>
          <a:blip r:embed="rId2"/>
          <a:stretch/>
        </p:blipFill>
        <p:spPr>
          <a:xfrm>
            <a:off x="1066680" y="2514600"/>
            <a:ext cx="7201080" cy="32893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334480" y="3048120"/>
            <a:ext cx="15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n – “goo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lid - 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876920" y="990720"/>
            <a:ext cx="2133360" cy="16761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pC/Jet: “Golden” vs oth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rat3_meta" descr=""/>
          <p:cNvPicPr/>
          <p:nvPr/>
        </p:nvPicPr>
        <p:blipFill>
          <a:blip r:embed="rId2"/>
          <a:stretch/>
        </p:blipFill>
        <p:spPr>
          <a:xfrm>
            <a:off x="990720" y="2590920"/>
            <a:ext cx="7200720" cy="3289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623480" y="5943600"/>
            <a:ext cx="419940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olden”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1.15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26 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NDF=1.1/2 (CL=0.5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hers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1.170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33 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NDF=4.3/2 (CL=0.1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onsis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4840" y="5970600"/>
            <a:ext cx="419940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olden”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1.138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30 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NDF=6.3/4 (CL=0.1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hers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1.266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37 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NDF=1.3/3 (CL=0.7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Different on ~3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4120" y="3048120"/>
            <a:ext cx="17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n –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lid – “Golde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304920" y="990720"/>
            <a:ext cx="1981080" cy="14475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934320" y="1219320"/>
            <a:ext cx="2209680" cy="12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n-gaussian intensity 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due to target positioning problems etc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14600" y="1295280"/>
            <a:ext cx="213372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lden”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ussi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nsity 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2819520"/>
            <a:ext cx="914400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: use separate normalization for pC “Golden” fills and ot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: stat. uncertainty for normalization increases b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5 (worst c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3048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pC vs HJ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ol_all_meta" descr=""/>
          <p:cNvPicPr/>
          <p:nvPr/>
        </p:nvPicPr>
        <p:blipFill>
          <a:blip r:embed="rId1"/>
          <a:stretch/>
        </p:blipFill>
        <p:spPr>
          <a:xfrm>
            <a:off x="1981080" y="990720"/>
            <a:ext cx="71629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HJet Performance for 31 Ge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66600" y="1676520"/>
            <a:ext cx="70419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Blue: looks norm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ckground is as low as for 100 G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Yellow: background is abnormally 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erent background may affect differently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Je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arg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505320"/>
            <a:ext cx="7924680" cy="16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Borrow blue pC normalization for yellow 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 GeV: pC blue and yellow normalization is the same within 11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56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consistent for “golden”; shifted by ~(7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)% for “others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1 GeV: energy correction changed differently in blue and yellow, compared to 100 GeV (by ~5mkg/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3% uncertain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6600" y="5715000"/>
            <a:ext cx="8412480" cy="87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ncertainty for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yellow)=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lue) for 31 GeV beams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%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% = 11.4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77480" y="990720"/>
            <a:ext cx="52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See Kieran’s presentation from Nov. 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6T18:44:55Z</dcterms:created>
  <dc:creator>Alexander Bazilevsky</dc:creator>
  <dc:description/>
  <dc:language>en-US</dc:language>
  <cp:lastModifiedBy>Alexander Bazilevsky</cp:lastModifiedBy>
  <dcterms:modified xsi:type="dcterms:W3CDTF">2007-11-30T17:45:16Z</dcterms:modified>
  <cp:revision>113</cp:revision>
  <dc:subject/>
  <dc:title>Comments on pC systematic uncertainties</dc:title>
</cp:coreProperties>
</file>