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0F0-CF7C-456D-9BCF-49ACE437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BF5-9DAC-464F-98E3-C4777CB8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3EC-C099-42FE-B860-AF209106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BDB-F00E-4509-9884-CD69A456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7BA-C3C7-44AC-8553-D2704DD5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3E1-BE4F-4F11-853B-B9D22488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636-9564-48DC-935B-02B5AB40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D22-D781-4988-B64F-88FF0838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4B4-96E0-42A6-8C4C-BD84D087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3F8-7B92-492F-A4BE-5B3540D9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B85-3E44-4370-AEDA-2AABB5BE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20B-C13B-4B2B-9CB9-B3DEC2E0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B167-90E5-4149-88E4-B581EDBDA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un6 CNI Analysis: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cluding Remarks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Summary of Systematic Uncertain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5760" y="3962520"/>
            <a:ext cx="43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Bazilev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HIC CNI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IC Spin Collaboration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30,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/P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230400" y="3860640"/>
            <a:ext cx="92210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correlated from fill to fi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t normalization, st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.3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.4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5.9%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5.9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.1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t normalization (horiz profil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1.1%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ame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0.5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Jet normalization, syst (molecular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2%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2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Jet normalization, syst (other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.3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.5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1.9%,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11.6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.1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2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. Profile (for experiment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2.0%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.6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.0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Energy correc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2.4%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.2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Total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.7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.8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7.2%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13.5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.9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6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230400" y="1346040"/>
            <a:ext cx="9144720" cy="21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rrelated from fill to fi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6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(31 GeV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 stat uncertainty in each fill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~4%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~5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horiz profi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d abo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.5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vert profil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2.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.6%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.0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4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correc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1.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am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.2%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1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129528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ol_final_meta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458200" cy="3862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inal Polarizations in Run6</a:t>
            </a:r>
            <a:br>
              <a:rPr sz="44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for experimen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1800" y="5181480"/>
            <a:ext cx="7209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yst. uncertain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.7%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7.2% for 31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/P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4.8%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(13.5% for 31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8.3% (19% for 31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263680"/>
            <a:ext cx="1981080" cy="2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75120" y="189720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182880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286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360" y="190512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182880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Backup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eriodByPeriodAsymmetry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4641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C/Jet: Chi2/NDF for fits over f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ol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Gol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2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6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9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2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8/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1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4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4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2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0.5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0.5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1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1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/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9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30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50/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vs Jet, ye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828800"/>
          <a:ext cx="8153640" cy="3200400"/>
        </p:xfrm>
        <a:graphic>
          <a:graphicData uri="http://schemas.openxmlformats.org/drawingml/2006/table">
            <a:tbl>
              <a:tblPr/>
              <a:tblGrid>
                <a:gridCol w="1165320"/>
                <a:gridCol w="1163520"/>
                <a:gridCol w="1165320"/>
                <a:gridCol w="1165320"/>
                <a:gridCol w="1165320"/>
                <a:gridCol w="1163520"/>
                <a:gridCol w="1165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den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451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51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49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0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439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3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5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1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6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1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5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1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7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6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7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64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0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3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0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3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41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30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68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656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03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95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vs Jet, b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905120"/>
          <a:ext cx="8153640" cy="3657600"/>
        </p:xfrm>
        <a:graphic>
          <a:graphicData uri="http://schemas.openxmlformats.org/drawingml/2006/table">
            <a:tbl>
              <a:tblPr/>
              <a:tblGrid>
                <a:gridCol w="1165320"/>
                <a:gridCol w="1163520"/>
                <a:gridCol w="1165320"/>
                <a:gridCol w="1165320"/>
                <a:gridCol w="1165320"/>
                <a:gridCol w="1163520"/>
                <a:gridCol w="1165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den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30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86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49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8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415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09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4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31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30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06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05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43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1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37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37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5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28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09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38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53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57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5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21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55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16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24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22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24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33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41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56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33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511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649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.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C energy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163000" cy="2738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638680" y="3429000"/>
            <a:ext cx="221004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4720" y="297180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1320" y="297180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429000"/>
            <a:ext cx="220968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52440" y="4648320"/>
            <a:ext cx="74408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d Layer” drifts in the ran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mkg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d to middl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% for polarization corr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% uncertainty on polarization due to energy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certainties due to polarization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Lfit_meta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25920" cy="3809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95680" y="2209680"/>
            <a:ext cx="419112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r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tep size is finite, so we may miss maximum intensity 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gligible (&lt;0.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v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-ness of the profiles (L/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ge f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14400" y="1295280"/>
                <a:ext cx="1828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352680" y="1371600"/>
                <a:ext cx="762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5180760" y="6400800"/>
            <a:ext cx="1959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: &lt;~1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e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133720"/>
            <a:ext cx="778824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step size is 0.3-0.5m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worst case we can miss the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5/2=0.2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verage ca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0.8mm R~0.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f we tak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iformly distributed between 0 and 0.25m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0.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34080" y="4800600"/>
            <a:ext cx="660744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in P due to uncertainty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eglig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HIC Polari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30400" y="4800600"/>
            <a:ext cx="3063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C-Po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57320" y="1295280"/>
            <a:ext cx="683892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Jet-Po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polarization (diluted by molecular backgr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Targe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~0.9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Targe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Je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y be affected by other backgrou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9920" y="3048120"/>
            <a:ext cx="464292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Jet-Po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y be affected by other backgrou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486400" y="3581280"/>
                <a:ext cx="266688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am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e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et</m:t>
                        </m:r>
                      </m:sup>
                    </m:sSubSup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am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400800" y="5105520"/>
                <a:ext cx="13143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m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am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Jet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am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52680" y="-36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v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vibr0_meta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64832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vibr1_meta" descr=""/>
          <p:cNvPicPr/>
          <p:nvPr/>
        </p:nvPicPr>
        <p:blipFill>
          <a:blip r:embed="rId2"/>
          <a:stretch/>
        </p:blipFill>
        <p:spPr>
          <a:xfrm>
            <a:off x="152280" y="3048120"/>
            <a:ext cx="4572000" cy="1836720"/>
          </a:xfrm>
          <a:prstGeom prst="rect">
            <a:avLst/>
          </a:prstGeom>
          <a:ln w="0">
            <a:noFill/>
          </a:ln>
        </p:spPr>
      </p:pic>
      <p:pic>
        <p:nvPicPr>
          <p:cNvPr id="143" name="vibr2_meta" descr=""/>
          <p:cNvPicPr/>
          <p:nvPr/>
        </p:nvPicPr>
        <p:blipFill>
          <a:blip r:embed="rId3"/>
          <a:stretch/>
        </p:blipFill>
        <p:spPr>
          <a:xfrm>
            <a:off x="152280" y="4940280"/>
            <a:ext cx="4743720" cy="1917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66040" y="685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(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680" y="365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1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960" y="5791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2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2000" y="1905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=0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3320" y="7621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. pr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67800" y="762120"/>
            <a:ext cx="131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vs L/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2760" y="762120"/>
            <a:ext cx="121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m. pr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90920"/>
            <a:ext cx="31240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see indication in data that A &gt; 2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= 1mm (2mm)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6% (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5638680"/>
            <a:ext cx="3738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due to target vibration is not s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uss-ness of profiles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/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it rang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105520"/>
            <a:ext cx="861084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 in R (by ~0.01) may be due to non-gaussian shape of polarization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85000"/>
              </a:lnSpc>
              <a:spcAft>
                <a:spcPts val="751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is variation can be considered to be translated to global uncertainty (0.5% for jet normalization and 0.25% for experimen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fill level: syst. uncertainties are absorbed by stat. uncertainty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NDF~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fit0_meta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919600" cy="3048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76720" y="1371600"/>
            <a:ext cx="26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Run6 data for Yellow (~10000 poi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6520" y="461016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7339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r_meta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00720" cy="5638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3880" y="3809880"/>
            <a:ext cx="609624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800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48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53840" y="4191120"/>
            <a:ext cx="75096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 Pro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 in blue is 0 – 0.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 in yellow is 0.03 – 0.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 Profile (assump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tion in both blue and yellow is 0 – 0.17  (0 – 0.22 at 62 GeV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&lt;R&gt; = 0.085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0.085   (0.11</a:t>
            </a:r>
            <a:r>
              <a:rPr b="1" lang="en-US" sz="2000" spc="-1" strike="noStrike">
                <a:solidFill>
                  <a:srgbClr val="cc33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0.11 at 62 G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848720" y="457200"/>
                <a:ext cx="761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ertainties due to pol. pro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85240" y="1413000"/>
            <a:ext cx="789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Global uncertain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Jet normalization (only horiz. profile matters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.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Run5: 0.5% for blue; 2.2% for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perimen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.0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ert. profile)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riz. is already included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Run5: 4.0% for blue; 4.1% for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ill uncertain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. uncertainties from fit (hori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.0% (ver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jet_pc_meta" descr=""/>
          <p:cNvPicPr/>
          <p:nvPr/>
        </p:nvPicPr>
        <p:blipFill>
          <a:blip r:embed="rId1"/>
          <a:stretch/>
        </p:blipFill>
        <p:spPr>
          <a:xfrm>
            <a:off x="1447920" y="0"/>
            <a:ext cx="6568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6520" y="40384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880" y="5715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/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5800" y="2251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Jet Performance for 100 G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27880" cy="3273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23120" y="3200400"/>
            <a:ext cx="14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un6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6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Run5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un5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5200" y="10666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asymmetry in Jet-P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53160" y="4724280"/>
            <a:ext cx="173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c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97000" y="1905120"/>
            <a:ext cx="96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92200" y="5334120"/>
            <a:ext cx="6610320" cy="124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performance is very stable through the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is small and its effect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am polarization is measured reliably by Jet-P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C/HJ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5199120"/>
            <a:ext cx="70866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ization changed by ~18% compared to Run4/5 norm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range changed i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? – Should be investig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o far, pC-Pol can be used only as a relative polarimeter:                      re-normalization for each set-up (Year) is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ergy corrections within a Year are considered: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2.4% energy correction drift within a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rat0_meta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00720" cy="3289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5600" y="9144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tat. errors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638680" y="2209680"/>
            <a:ext cx="2951280" cy="1143000"/>
            <a:chOff x="5638680" y="2209680"/>
            <a:chExt cx="2951280" cy="1143000"/>
          </a:xfrm>
        </p:grpSpPr>
        <p:sp>
          <p:nvSpPr>
            <p:cNvPr id="61" name=""/>
            <p:cNvSpPr/>
            <p:nvPr/>
          </p:nvSpPr>
          <p:spPr>
            <a:xfrm>
              <a:off x="7238880" y="2209680"/>
              <a:ext cx="135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bl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38680" y="2590920"/>
              <a:ext cx="609840" cy="76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248160" y="2514600"/>
              <a:ext cx="990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677600" y="1828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9240" y="17524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Jet with Yellow b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867280" cy="3984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01520" y="5334120"/>
            <a:ext cx="120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10640" y="187020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arget a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2640" y="365760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 a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07440" y="6019920"/>
            <a:ext cx="7453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performance looks stable (target asymmetry is const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C/Jet: bad fills exlcu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1905120" cy="1585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53320" y="1219320"/>
            <a:ext cx="5946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finished scan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us 7654 and 767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– Ex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nl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llow period is affec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9960" y="5943600"/>
            <a:ext cx="48762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2/NDF in Yellow improved considerabl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10.8/3 (CL=0.01) to 5.5/3 (CL=0.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rat1_meta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201080" cy="3289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4480" y="304812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– “go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id -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990720"/>
            <a:ext cx="2133360" cy="16761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C/Jet: “Golden” vs o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rat3_meta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7200720" cy="328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23480" y="5943600"/>
            <a:ext cx="4199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lden”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.15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6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NDF=1.1/2 (CL=0.5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s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.170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3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NDF=4.3/2 (CL=0.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nsis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4840" y="5970600"/>
            <a:ext cx="41994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lden”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.138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0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NDF=6.3/4 (CL=0.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s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.266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7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NDF=1.3/3 (CL=0.7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ifferent on ~3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3048120"/>
            <a:ext cx="17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–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id – “Golde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04920" y="990720"/>
            <a:ext cx="1981080" cy="1447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934320" y="1219320"/>
            <a:ext cx="220968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gaussian intensity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ue to target positioning problems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295280"/>
            <a:ext cx="213372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lden”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ussi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sity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819520"/>
            <a:ext cx="914400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: use separate normalization for pC “Golden” fills and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: stat. uncertainty for normalization increases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(worst c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C vs HJ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ol_all_meta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7162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Jet Performance for 31 G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66600" y="1676520"/>
            <a:ext cx="704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lue: looks nor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is as low as for 100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Yellow: background is abnormally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background may affect differentl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J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505320"/>
            <a:ext cx="792468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Borrow blue pC normalization for yellow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GeV: pC blue and yellow normalization is the same within 1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sistent for “golden”; shifted by ~(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% for “other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 GeV: energy correction changed differently in blue and yellow, compared to 100 GeV (by ~5mkg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%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600" y="5715000"/>
            <a:ext cx="841248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certainty for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ellow)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lue) for 31 GeV beam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%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% = 11.4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77480" y="990720"/>
            <a:ext cx="52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See Kieran’s presentation from Nov. 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8:44:55Z</dcterms:created>
  <dc:creator>Alexander Bazilevsky</dc:creator>
  <dc:description/>
  <dc:language>en-US</dc:language>
  <cp:lastModifiedBy>Alexander Bazilevsky</cp:lastModifiedBy>
  <dcterms:modified xsi:type="dcterms:W3CDTF">2007-11-30T17:45:16Z</dcterms:modified>
  <cp:revision>113</cp:revision>
  <dc:subject/>
  <dc:title>Comments on pC systematic uncertainties</dc:title>
</cp:coreProperties>
</file>