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12.png" ContentType="image/png"/>
  <Override PartName="/ppt/media/image7.wmf" ContentType="image/x-wmf"/>
  <Override PartName="/ppt/media/image37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11A-2266-4E3B-83FC-59371C73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087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123-BF71-4EE9-A923-7F304F3D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CEF-DEA4-4A40-A6D4-C5C56DAD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5AC-0D98-46C1-AA36-3934335C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DB9-CA19-46B1-A5B8-F362E4F6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8FC-95D4-4F34-B1CE-78F405F2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794-0AD1-465C-BA4B-7C64F988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57D-CAF5-4A4F-8562-B5C58084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46040" y="-3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506-B698-4A2C-BE2B-320816B0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09D-CDF0-4BD1-886A-85D1EA82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E07-0C39-4A02-B018-51F05F0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10D-C6E5-447B-8F57-1AED2DE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55B8-9855-4E2C-B684-CCE564CA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28600" y="6494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273A-629D-4B53-ADFD-F18FFB25DD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73160" y="649116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C Meeting – November 1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27000" y="6515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eran Bo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0" b="12972"/>
          <a:stretch/>
        </p:blipFill>
        <p:spPr>
          <a:xfrm>
            <a:off x="8101080" y="42840"/>
            <a:ext cx="1042920" cy="528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510240"/>
            <a:ext cx="9144000" cy="111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895320"/>
            <a:ext cx="9144000" cy="111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54240"/>
            <a:ext cx="77724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Jet Polarimeter Results from Run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454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ran Bo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ony Brook Univer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8920" y="3786120"/>
            <a:ext cx="4648320" cy="2703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98920" y="952560"/>
            <a:ext cx="4648320" cy="2703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Run 6 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4960" y="907560"/>
            <a:ext cx="3200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whole running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es for Yellow (top) and Blue (bottom) running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beam asymmetries for Yellow (top) and Blue (bottom) b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nly uses data from 1-4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55480" y="3971880"/>
            <a:ext cx="63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8880" y="1162080"/>
            <a:ext cx="851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46280" y="1274760"/>
            <a:ext cx="12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65960" y="108756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62720" y="394956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48280" y="3946680"/>
            <a:ext cx="947880" cy="220788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48280" y="108252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t Results (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based on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300400" y="1863720"/>
            <a:ext cx="4624200" cy="4371840"/>
            <a:chOff x="2300400" y="1863720"/>
            <a:chExt cx="4624200" cy="43718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300400" y="1965240"/>
              <a:ext cx="462420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832360" y="1863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392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arization Fill By Fill (100 Ge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2440" y="54975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fill by fill analysis using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32320" y="1281240"/>
            <a:ext cx="42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5240" y="958680"/>
            <a:ext cx="7243560" cy="44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es By 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80996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By Fill asymme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able.  Fluctuation is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4520" y="1055520"/>
            <a:ext cx="8253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09560" y="922320"/>
            <a:ext cx="5580360" cy="3245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with Ru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273560"/>
            <a:ext cx="8229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jet is consistent between years, we can compare target asymme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asymmetries should be constant as Target polarization is 92.4% +/- 1.8% for both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in good compa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80560" y="1459080"/>
            <a:ext cx="145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n6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6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Run5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un5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Corrected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ackground assuming background is asymmetry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5600" y="2139840"/>
            <a:ext cx="59086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t Results (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based on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00400" y="1863720"/>
            <a:ext cx="4624200" cy="4371840"/>
            <a:chOff x="2300400" y="1863720"/>
            <a:chExt cx="4624200" cy="4371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300400" y="1965240"/>
              <a:ext cx="462420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832360" y="1863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asymXerror_10000_shuf_3.gif"/>
          <p:cNvPicPr/>
          <p:nvPr/>
        </p:nvPicPr>
        <p:blipFill>
          <a:blip r:embed="rId1"/>
          <a:srcRect l="50278" t="0" r="0" b="25752"/>
          <a:stretch/>
        </p:blipFill>
        <p:spPr>
          <a:xfrm>
            <a:off x="3794040" y="1519200"/>
            <a:ext cx="2571840" cy="42195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ch Shuffling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1880" y="1050480"/>
            <a:ext cx="355428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 spin pattern, while retaining bunch yiel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in Gaussian shows level of syst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show slight deviation from 1, less than Run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symXerror_10000_shuf_3.gif"/>
          <p:cNvPicPr/>
          <p:nvPr/>
        </p:nvPicPr>
        <p:blipFill>
          <a:blip r:embed="rId2"/>
          <a:srcRect l="0" t="25752" r="50278" b="0"/>
          <a:stretch/>
        </p:blipFill>
        <p:spPr>
          <a:xfrm>
            <a:off x="6350040" y="1568520"/>
            <a:ext cx="2571840" cy="4219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67040" y="14637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86400" y="144468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76680" y="285588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65880" y="288612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431640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92520" y="42609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1720" y="5621400"/>
            <a:ext cx="170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asymXerror_10000_shuf_5.gif"/>
          <p:cNvPicPr/>
          <p:nvPr/>
        </p:nvPicPr>
        <p:blipFill>
          <a:blip r:embed="rId1"/>
          <a:srcRect l="50278" t="0" r="0" b="25752"/>
          <a:stretch/>
        </p:blipFill>
        <p:spPr>
          <a:xfrm>
            <a:off x="3849840" y="1542960"/>
            <a:ext cx="2546280" cy="41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ch Shuffling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880" y="1050480"/>
            <a:ext cx="355428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 spin pattern, while retaining bunch yiel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in Gaussian shows level of syst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show slight deviation from 1, less than Run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asymXerror_10000_shuf_5.gif"/>
          <p:cNvPicPr/>
          <p:nvPr/>
        </p:nvPicPr>
        <p:blipFill>
          <a:blip r:embed="rId2"/>
          <a:srcRect l="0" t="25752" r="50278" b="0"/>
          <a:stretch/>
        </p:blipFill>
        <p:spPr>
          <a:xfrm>
            <a:off x="6383160" y="1585800"/>
            <a:ext cx="2548080" cy="4176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101720" y="5621400"/>
            <a:ext cx="170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67040" y="14637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86400" y="144468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6680" y="285588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65880" y="288612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90800" y="431640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92520" y="42609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630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Jet Status in Ru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es &amp; Polar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by 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ch Shuff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Beam Asymmetries &amp; Pol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Beam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995400" y="4732200"/>
            <a:ext cx="2757600" cy="1738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52560" y="4572000"/>
            <a:ext cx="70632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sources of backg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Scattering from Molecular Hydrog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assume unpolarized, then beam and target asymmetries differ.  Accounted for in polarization of target. (96%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2.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lastic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for target, backward for beam so can be different.  Estimate possible asymm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Scattering from other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utes both beam and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nsidering one beam, other is spin aver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ing from target to our acceptance (light green) is backward scattering from target (or forward scattering from unpolarize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—so no spin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tudy Non-Ela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760" y="1065240"/>
            <a:ext cx="3511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wo peak strip for signal (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rips closer to perpendicular for BG1 (pur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rips farther from perpendicular for BG2 (green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ere is no acceptance above          2 M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1 strip between peak and B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67200" y="1119240"/>
            <a:ext cx="5089320" cy="5118120"/>
            <a:chOff x="3967200" y="1119240"/>
            <a:chExt cx="5089320" cy="51181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0" t="21460" r="57770" b="34342"/>
            <a:stretch/>
          </p:blipFill>
          <p:spPr>
            <a:xfrm>
              <a:off x="3967200" y="1119240"/>
              <a:ext cx="50893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919560" y="137304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01040" y="135108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07240" y="26463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22880" y="26607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29440" y="39402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99400" y="39387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97600" y="51912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51894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242120" y="1378080"/>
            <a:ext cx="173160" cy="8474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1720" y="1370160"/>
            <a:ext cx="172800" cy="84744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12080" y="1371600"/>
            <a:ext cx="1731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21680" y="1363680"/>
            <a:ext cx="1731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34280" y="267660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4320" y="266868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906040" y="267012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36080" y="266220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53360" y="396720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83400" y="39337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9880" y="51991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59840" y="520524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09800" y="2055600"/>
            <a:ext cx="639720" cy="604800"/>
            <a:chOff x="3709800" y="2055600"/>
            <a:chExt cx="639720" cy="604800"/>
          </a:xfrm>
        </p:grpSpPr>
        <p:sp>
          <p:nvSpPr>
            <p:cNvPr id="200" name=""/>
            <p:cNvSpPr/>
            <p:nvPr/>
          </p:nvSpPr>
          <p:spPr>
            <a:xfrm flipV="1">
              <a:off x="3749040" y="221760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735720" y="2055600"/>
              <a:ext cx="599400" cy="14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0800000">
              <a:off x="3709800" y="2086200"/>
              <a:ext cx="639720" cy="131400"/>
            </a:xfrm>
            <a:prstGeom prst="rtTriangl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813120" y="1084320"/>
            <a:ext cx="568440" cy="534600"/>
            <a:chOff x="3813120" y="1084320"/>
            <a:chExt cx="568440" cy="534600"/>
          </a:xfrm>
        </p:grpSpPr>
        <p:sp>
          <p:nvSpPr>
            <p:cNvPr id="204" name=""/>
            <p:cNvSpPr/>
            <p:nvPr/>
          </p:nvSpPr>
          <p:spPr>
            <a:xfrm flipV="1">
              <a:off x="3825720" y="122724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813120" y="1084320"/>
              <a:ext cx="568440" cy="13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706200" y="3205800"/>
            <a:ext cx="726120" cy="676800"/>
            <a:chOff x="3706200" y="3205800"/>
            <a:chExt cx="726120" cy="676800"/>
          </a:xfrm>
        </p:grpSpPr>
        <p:sp>
          <p:nvSpPr>
            <p:cNvPr id="207" name=""/>
            <p:cNvSpPr/>
            <p:nvPr/>
          </p:nvSpPr>
          <p:spPr>
            <a:xfrm flipV="1">
              <a:off x="3782880" y="350820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768120" y="3371400"/>
              <a:ext cx="664200" cy="12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9885600">
              <a:off x="3708360" y="3296880"/>
              <a:ext cx="709200" cy="111240"/>
            </a:xfrm>
            <a:prstGeom prst="rtTriangl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0" r="49443" b="0"/>
          <a:stretch/>
        </p:blipFill>
        <p:spPr>
          <a:xfrm>
            <a:off x="774720" y="968400"/>
            <a:ext cx="2444760" cy="281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0" t="0" r="49443" b="0"/>
          <a:stretch/>
        </p:blipFill>
        <p:spPr>
          <a:xfrm>
            <a:off x="5938920" y="1036800"/>
            <a:ext cx="2444760" cy="2815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0" t="0" r="49443" b="0"/>
          <a:stretch/>
        </p:blipFill>
        <p:spPr>
          <a:xfrm>
            <a:off x="3503520" y="957240"/>
            <a:ext cx="2444760" cy="2816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or different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1480" y="3860640"/>
            <a:ext cx="8217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G2 to estimate size of possible asymmetry in non-elastic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asymmetry, and background contribution, estimate possible effect on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will scale with thi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3760" y="1266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23120" y="124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1257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69240" y="6602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120" y="2801880"/>
            <a:ext cx="179064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672920" y="1985760"/>
            <a:ext cx="639720" cy="604800"/>
            <a:chOff x="1672920" y="1985760"/>
            <a:chExt cx="639720" cy="604800"/>
          </a:xfrm>
        </p:grpSpPr>
        <p:sp>
          <p:nvSpPr>
            <p:cNvPr id="221" name=""/>
            <p:cNvSpPr/>
            <p:nvPr/>
          </p:nvSpPr>
          <p:spPr>
            <a:xfrm flipV="1">
              <a:off x="1712160" y="214776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698840" y="1985760"/>
              <a:ext cx="599400" cy="14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10800000">
              <a:off x="1672920" y="2016360"/>
              <a:ext cx="639720" cy="13140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33840" y="2708280"/>
            <a:ext cx="568440" cy="534600"/>
            <a:chOff x="4533840" y="2708280"/>
            <a:chExt cx="568440" cy="534600"/>
          </a:xfrm>
        </p:grpSpPr>
        <p:sp>
          <p:nvSpPr>
            <p:cNvPr id="225" name=""/>
            <p:cNvSpPr/>
            <p:nvPr/>
          </p:nvSpPr>
          <p:spPr>
            <a:xfrm flipV="1">
              <a:off x="4546440" y="285120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533840" y="2708280"/>
              <a:ext cx="568440" cy="13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79640" y="2255040"/>
            <a:ext cx="726120" cy="676800"/>
            <a:chOff x="7379640" y="2255040"/>
            <a:chExt cx="726120" cy="676800"/>
          </a:xfrm>
        </p:grpSpPr>
        <p:sp>
          <p:nvSpPr>
            <p:cNvPr id="228" name=""/>
            <p:cNvSpPr/>
            <p:nvPr/>
          </p:nvSpPr>
          <p:spPr>
            <a:xfrm flipV="1">
              <a:off x="7456320" y="2557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441560" y="2420640"/>
              <a:ext cx="664200" cy="12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9885600">
              <a:off x="7381800" y="2346120"/>
              <a:ext cx="709200" cy="11124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 of systematic uncertaint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100 G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olariz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for molecular hydrogen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lastic Backgroun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: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am Backgroun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utes both asymmetries.  Analytic calculations shows effect on polarization is &lt;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1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s are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2676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 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1480" y="1441440"/>
            <a:ext cx="239076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in blue similar to 1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ed green are signal s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8584" r="0" b="0"/>
          <a:stretch/>
        </p:blipFill>
        <p:spPr>
          <a:xfrm>
            <a:off x="3146400" y="949320"/>
            <a:ext cx="5997600" cy="5270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74880" y="9777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52920" y="16128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52920" y="22510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2000" y="28908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9680" y="35258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9680" y="416412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86040" y="48546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4080" y="54896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98200" y="621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 Blue 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4311720"/>
            <a:ext cx="840888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in blue beam is reaso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Blue beam polar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46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69240" y="16016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093760" y="993600"/>
            <a:ext cx="574992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2676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Problem in 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1840" y="1441440"/>
            <a:ext cx="2425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much larger in Yellow b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is not entirely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ffect beam polarization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8584" r="0" b="0"/>
          <a:stretch/>
        </p:blipFill>
        <p:spPr>
          <a:xfrm>
            <a:off x="2968560" y="984240"/>
            <a:ext cx="6175440" cy="5424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098200" y="621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4880" y="11494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52920" y="178452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52920" y="24224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2000" y="30621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9680" y="36972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9680" y="43354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50259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4080" y="56610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403280" y="1047600"/>
            <a:ext cx="6648480" cy="38674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 Yellow 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92084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beam has large background which clearly affects measured asymmetry of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imply that effective target polarization is different from 92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extraction of beam polarization is un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9240" y="15890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get elastic pr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79200"/>
            <a:ext cx="4811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non-relativistic kinematics,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coi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coil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ass of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F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related giving us a “banana”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ally scattered protons will have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relation, i.e.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rip cor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1000" y="4863960"/>
            <a:ext cx="2492640" cy="15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87126" b="67137"/>
          <a:stretch/>
        </p:blipFill>
        <p:spPr>
          <a:xfrm>
            <a:off x="6041880" y="993600"/>
            <a:ext cx="2916360" cy="530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2271" t="0" r="74850" b="67137"/>
          <a:stretch/>
        </p:blipFill>
        <p:spPr>
          <a:xfrm>
            <a:off x="6041880" y="993600"/>
            <a:ext cx="2916360" cy="530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24541" t="0" r="62585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36807" t="0" r="50309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rcRect l="49082" t="0" r="38039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61353" t="0" r="25768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rcRect l="73623" t="0" r="13498" b="67137"/>
          <a:stretch/>
        </p:blipFill>
        <p:spPr>
          <a:xfrm>
            <a:off x="6041880" y="993600"/>
            <a:ext cx="2944800" cy="529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82040" y="609768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5773320" y="13147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803920" y="38653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8240" y="347184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1459080" y="1666800"/>
            <a:ext cx="2774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symme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4813200"/>
            <a:ext cx="914400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and yellow beam asymmetries are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symmetries are quite different, due to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ellow target asymmetry is unreliable at 31 GeV, we must use Blue beam to normali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ha will discuss additional uncertainty due to this more, but is ~2.2  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08160" y="993600"/>
            <a:ext cx="6648480" cy="3867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869240" y="15890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02600" y="6035760"/>
            <a:ext cx="155520" cy="15552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Non-Elastic at 31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8000" y="1065240"/>
            <a:ext cx="351144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ame as at 100 Ge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wo peak strip for signal (r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rips closer to perpendicular for BG1 (purp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rips farther from perpendicular for BG2 (green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re is no acceptance above          2 M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1 strip between peak and BG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844800" y="1119240"/>
            <a:ext cx="5089680" cy="5118120"/>
            <a:chOff x="3844800" y="1119240"/>
            <a:chExt cx="5089680" cy="51181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0" t="21460" r="57770" b="34342"/>
            <a:stretch/>
          </p:blipFill>
          <p:spPr>
            <a:xfrm>
              <a:off x="3844800" y="1119240"/>
              <a:ext cx="508968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797520" y="1373040"/>
              <a:ext cx="18288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79000" y="135108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85200" y="26463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00840" y="2660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7400" y="3940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77360" y="3938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75560" y="5191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07400" y="51894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102440" y="1378080"/>
            <a:ext cx="173160" cy="8474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2040" y="1370160"/>
            <a:ext cx="172800" cy="84744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72400" y="1371600"/>
            <a:ext cx="1731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82000" y="1363680"/>
            <a:ext cx="1731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94600" y="267660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24640" y="266868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766000" y="2670120"/>
            <a:ext cx="939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6400" y="266220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13680" y="396720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43720" y="39337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50200" y="51991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20160" y="520524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076800" y="1031760"/>
            <a:ext cx="2428920" cy="28497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517920" y="1030320"/>
            <a:ext cx="2428920" cy="28494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97040" y="974880"/>
            <a:ext cx="2428920" cy="2849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77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or different regions: 31 G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31480" y="3860640"/>
            <a:ext cx="8217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G2 to estimate size of possible asymmetry in non-elastic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asymmetry, and background contribution, estimate possible effect on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will scale with thi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3760" y="1266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23120" y="124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74840" y="11365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69240" y="6602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1120" y="2595600"/>
            <a:ext cx="1565280" cy="67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138400" y="195264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120760" y="1763280"/>
            <a:ext cx="77652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2087640" y="1799280"/>
            <a:ext cx="828720" cy="153720"/>
          </a:xfrm>
          <a:prstGeom prst="rtTriangl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95960" y="282888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378320" y="2639520"/>
            <a:ext cx="77616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537320" y="2309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520040" y="2120400"/>
            <a:ext cx="77616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 rot="9885600">
            <a:off x="7449840" y="2017440"/>
            <a:ext cx="828720" cy="154080"/>
          </a:xfrm>
          <a:prstGeom prst="rtTriangl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 of systematic uncertaint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31 GeV for </a:t>
            </a: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a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olariz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for molecular hydrogen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lastic Backgroun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: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am Backgroun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utes both asymmetries.  Analytic calculations shows effect on polarization is &lt;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s at 100 GeV are pres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normalizing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for target asymmetry consistent with Run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 similar to Ru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 at 31 GeV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beam has low background, and will be used to normalize blue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beam has high backgroun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from Jet not rel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lue beam to normalize yellow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ha will discuss uncertainty due t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04720" y="1054080"/>
            <a:ext cx="5810400" cy="39052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65760" y="3922560"/>
            <a:ext cx="3162240" cy="25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DC and TDC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ing trigger timing, so must acount for when trigger oc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ct of baseline from max AD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DC at ADC(TDC)=½ADCma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57320" y="4330800"/>
            <a:ext cx="2857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69920" y="2438280"/>
            <a:ext cx="250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0640"/>
            <a:ext cx="0" cy="27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7840" y="4633920"/>
            <a:ext cx="82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9560" y="412596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20" y="2259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bration Runs for Run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4.4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506.4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05      (End of 200 GeV run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12.4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06    (six months after r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for all calibration runs, detector 5 is not working at all.  Detector 5 died ~ Apr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5 calibrations are different from Run6, and so cannot be used for data before  April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ame method as for Run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s we have 4 possible peaks, for each channel we have at most 4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74840" y="1633680"/>
            <a:ext cx="4700520" cy="6206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509840" y="3270240"/>
            <a:ext cx="6226200" cy="959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459080" y="4175280"/>
            <a:ext cx="609264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Jet Status During Run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an with only one beam on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Beam was displaced vertically and horizont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d (detector) out of six died on April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nergy calibration for this sensor in Run6, so excluded from th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0040" y="4059360"/>
            <a:ext cx="3794400" cy="239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6120" y="562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70480" y="1065240"/>
            <a:ext cx="42163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DC distribution, extract peak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etectors have Gd and Am source (includes dead detector), 3 have only 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eak structure due to different entrance window thic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thod described in the Run5 analysis note, we get energy calibration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1904401_peakADC.gif"/>
          <p:cNvPicPr/>
          <p:nvPr/>
        </p:nvPicPr>
        <p:blipFill>
          <a:blip r:embed="rId1"/>
          <a:stretch/>
        </p:blipFill>
        <p:spPr>
          <a:xfrm>
            <a:off x="203040" y="3772080"/>
            <a:ext cx="4034160" cy="2687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Section0.gif"/>
          <p:cNvPicPr/>
          <p:nvPr/>
        </p:nvPicPr>
        <p:blipFill>
          <a:blip r:embed="rId2"/>
          <a:stretch/>
        </p:blipFill>
        <p:spPr>
          <a:xfrm>
            <a:off x="150840" y="952560"/>
            <a:ext cx="4129200" cy="27511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1904401_calibconst.gif"/>
          <p:cNvPicPr/>
          <p:nvPr/>
        </p:nvPicPr>
        <p:blipFill>
          <a:blip r:embed="rId3"/>
          <a:stretch/>
        </p:blipFill>
        <p:spPr>
          <a:xfrm>
            <a:off x="4853160" y="3710160"/>
            <a:ext cx="4127400" cy="2749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 flipH="1">
            <a:off x="4586760" y="3967200"/>
            <a:ext cx="3326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 Constants (Me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6108840"/>
            <a:ext cx="5331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84000" y="568476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49240" y="223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73320" y="1484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82720" y="16286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Compare measured ToF (TDC*2.38 ns) with expected ToF from a proton with the measured energy assuming non relativistic kin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plot histogram of To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al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extract calibration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ty is one step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828880" y="3125880"/>
            <a:ext cx="36511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28600" y="905040"/>
            <a:ext cx="7415280" cy="5682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 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806560"/>
            <a:ext cx="330120" cy="45720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790640"/>
            <a:ext cx="330120" cy="45720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30640" y="23097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38160" y="3822840"/>
            <a:ext cx="7937640" cy="30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24280" y="331308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0800000">
            <a:off x="-127080" y="1170360"/>
            <a:ext cx="49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302000" y="3154680"/>
            <a:ext cx="49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0800000">
            <a:off x="2488680" y="1031400"/>
            <a:ext cx="4921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91960" y="905040"/>
            <a:ext cx="7415280" cy="5682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05040" y="2044800"/>
            <a:ext cx="316080" cy="4363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3667680" y="3533040"/>
            <a:ext cx="315720" cy="4381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730640" y="23097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29560" y="49957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3962520"/>
            <a:ext cx="1440" cy="25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3962520"/>
            <a:ext cx="1440" cy="25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4493160" y="3469320"/>
            <a:ext cx="316080" cy="4381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379000">
            <a:off x="5063760" y="3548160"/>
            <a:ext cx="393840" cy="293760"/>
          </a:xfrm>
          <a:prstGeom prst="rightArrow">
            <a:avLst>
              <a:gd name="adj1" fmla="val 50000"/>
              <a:gd name="adj2" fmla="val 840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065240"/>
            <a:ext cx="293364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dots are for yellow beam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red dots which are the other beam, and not well calib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left to right are the 6 detectors (1 is dead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at left is in very low energy protons, which have problems due to energy loss at the entrance window of silicon, and due to magnetic field affecting traveled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457440" y="1025640"/>
            <a:ext cx="56865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4246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per strip (Yellow beam, 100 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53960"/>
            <a:ext cx="3306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ignal region based on two strips with maximum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strips to reduce background cont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860640" y="1001880"/>
            <a:ext cx="52833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1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. Error due to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37339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sult, we use two strips correlated with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ion factor due to molecular hydrogen component reduces target polarization (main background source) from 96% to 92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is assumes molecular hydrogen component is not polarized.  If background is polarized, directly affect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systematic uncertainty in polarization by varying amount of background (i.e use fewer or more stri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show increase in ratio as more background is inclu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370400" y="3689280"/>
            <a:ext cx="4773600" cy="27799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370400" y="933480"/>
            <a:ext cx="4773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rom Run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29844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lanning on showing this Friday, but just for compa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eg used maximum difference as systematic error (1.1%/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un6, this would give 1.8%/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517920" y="1017720"/>
            <a:ext cx="5326200" cy="25444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517920" y="3749760"/>
            <a:ext cx="5278320" cy="2643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8496360" y="176544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12160" y="2158920"/>
            <a:ext cx="17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750160" y="17654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79320" y="1776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200" y="33480"/>
            <a:ext cx="907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t that inelastic effect is 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3348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31 GeV any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are very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rrect both results for backgrounds assuming 0 asymmetry in background, results agree within s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49443" b="0"/>
          <a:stretch/>
        </p:blipFill>
        <p:spPr>
          <a:xfrm>
            <a:off x="190440" y="2616120"/>
            <a:ext cx="3365640" cy="3876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rcRect l="0" t="0" r="49443" b="0"/>
          <a:stretch/>
        </p:blipFill>
        <p:spPr>
          <a:xfrm>
            <a:off x="3440160" y="2631960"/>
            <a:ext cx="3365280" cy="3876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385280" y="22780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23162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25520" y="3794040"/>
            <a:ext cx="450720" cy="14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9160" y="4317840"/>
            <a:ext cx="249084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33640" y="4118040"/>
            <a:ext cx="124596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92520" y="3762360"/>
            <a:ext cx="451080" cy="14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16520" y="4286160"/>
            <a:ext cx="249048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00640" y="4086360"/>
            <a:ext cx="124596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s (Banana plots):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91624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ana cut of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ed around proton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55800" y="1201680"/>
            <a:ext cx="6229080" cy="444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289640" y="934920"/>
            <a:ext cx="1854360" cy="1170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21720" y="552780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81040" y="129564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per strip (Blue bea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53960"/>
            <a:ext cx="3306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ignal region based on two strips with maximum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strips to reduce background cont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60640" y="1144440"/>
            <a:ext cx="5283360" cy="5080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438320" y="60642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0280" y="138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55160" y="138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8760" y="1349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6120" y="140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5160" y="141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49120" y="140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14640" y="1308240"/>
            <a:ext cx="5089680" cy="5118120"/>
            <a:chOff x="3914640" y="1308240"/>
            <a:chExt cx="5089680" cy="511812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0" t="21460" r="57770" b="34342"/>
            <a:stretch/>
          </p:blipFill>
          <p:spPr>
            <a:xfrm>
              <a:off x="3914640" y="1308240"/>
              <a:ext cx="508968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867360" y="1562040"/>
              <a:ext cx="18288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48840" y="154008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55040" y="28353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70680" y="2849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77240" y="4129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47200" y="4127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45400" y="5380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77240" y="53784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4880"/>
            <a:ext cx="5334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mple square root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wo different asymm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Target polarized, beam unpola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arget unpolarized, beam pola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between two asymmetries, scaled by target polarization, gives beam polar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2.4% +/- 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52560" y="1488960"/>
            <a:ext cx="3841920" cy="9432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82720" y="4659480"/>
            <a:ext cx="3241800" cy="917280"/>
            <a:chOff x="1782720" y="4659480"/>
            <a:chExt cx="3241800" cy="917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2701800" y="4659480"/>
              <a:ext cx="1401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068720" y="5008680"/>
              <a:ext cx="9558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782720" y="4900680"/>
              <a:ext cx="955800" cy="4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5840" y="2585880"/>
            <a:ext cx="2986200" cy="361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10800000">
            <a:off x="5689080" y="2871000"/>
            <a:ext cx="45468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 Energy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065240"/>
            <a:ext cx="51577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sult, use only 1-4 MeV 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ve 4 GeV, protons may punch through detector, and so reconstructed energy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1 GeV, ToF calibration is not reliable, as particle path is affected by magnetic holding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35680" y="1843200"/>
            <a:ext cx="2986200" cy="360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24720" y="2070000"/>
            <a:ext cx="1293840" cy="291636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742000" y="2318400"/>
            <a:ext cx="45468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1:25:31Z</dcterms:created>
  <dc:creator>Kieran </dc:creator>
  <dc:description/>
  <dc:language>en-US</dc:language>
  <cp:lastModifiedBy>Kieran </cp:lastModifiedBy>
  <dcterms:modified xsi:type="dcterms:W3CDTF">2007-11-15T13:58:35Z</dcterms:modified>
  <cp:revision>49</cp:revision>
  <dc:subject/>
  <dc:title>Slide 1</dc:title>
</cp:coreProperties>
</file>