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14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12.png" ContentType="image/png"/>
  <Override PartName="/ppt/media/image7.wmf" ContentType="image/x-wmf"/>
  <Override PartName="/ppt/media/image37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33.wmf" ContentType="image/x-wmf"/>
  <Override PartName="/ppt/media/image45.wmf" ContentType="image/x-wmf"/>
  <Override PartName="/ppt/media/image46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8.wmf" ContentType="image/x-wmf"/>
  <Override PartName="/ppt/media/image40.png" ContentType="image/png"/>
  <Override PartName="/ppt/media/image38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34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C71-4007-406B-871C-CCD4D05D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087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1A0-B101-4CCE-9759-7C1EB59C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524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087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087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FAA3-5CE3-4370-865B-5AABE831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524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524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087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087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087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E47-45DF-4DAF-91F8-E500A9BB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8CC-EE77-4CC0-84F2-BDC3D7E0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05D-3127-42BE-8FD2-DD532FA7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524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CD33-1B54-4294-9045-1BBA9FDD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1AB-3A3E-4999-85FB-4BA371CE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46040" y="-3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2871-72F3-4B27-BB68-183709B3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524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087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922-1573-44FF-AF8C-98A77E22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524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087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D02-3295-4BED-9598-2F2A0F7C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524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087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034-9908-4607-8FB5-E37617B7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9F6F-5076-4D43-9CC6-19C176E00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28600" y="6494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C6E9-0D0B-43DD-A68C-1F2A7BE96D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73160" y="6491160"/>
            <a:ext cx="37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C Meeting – November 15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27000" y="65152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eran Bo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0" b="12972"/>
          <a:stretch/>
        </p:blipFill>
        <p:spPr>
          <a:xfrm>
            <a:off x="8101080" y="42840"/>
            <a:ext cx="1042920" cy="528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6510240"/>
            <a:ext cx="9144000" cy="1116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895320"/>
            <a:ext cx="9144000" cy="1116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54240"/>
            <a:ext cx="777240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gen Jet Polarimeter Results from Run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454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eran Bo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tony Brook Univer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98920" y="3786120"/>
            <a:ext cx="4648320" cy="2703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498920" y="952560"/>
            <a:ext cx="4648320" cy="2703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(Run 6 100 Ge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4960" y="907560"/>
            <a:ext cx="3200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whole running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LEF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es for Yellow (top) and Blue (bottom) running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beam asymmetries for Yellow (top) and Blue (bottom) b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nly uses data from 1-4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55480" y="3971880"/>
            <a:ext cx="63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8880" y="1162080"/>
            <a:ext cx="851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46280" y="1274760"/>
            <a:ext cx="12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target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eam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rget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a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65960" y="1087560"/>
            <a:ext cx="947880" cy="2208240"/>
          </a:xfrm>
          <a:prstGeom prst="rect">
            <a:avLst/>
          </a:prstGeom>
          <a:solidFill>
            <a:srgbClr val="ff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62720" y="3949560"/>
            <a:ext cx="947880" cy="2208240"/>
          </a:xfrm>
          <a:prstGeom prst="rect">
            <a:avLst/>
          </a:prstGeom>
          <a:solidFill>
            <a:srgbClr val="ff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48280" y="3946680"/>
            <a:ext cx="947880" cy="2207880"/>
          </a:xfrm>
          <a:prstGeom prst="rect">
            <a:avLst/>
          </a:prstGeom>
          <a:solidFill>
            <a:srgbClr val="ff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48280" y="1082520"/>
            <a:ext cx="947880" cy="2208240"/>
          </a:xfrm>
          <a:prstGeom prst="rect">
            <a:avLst/>
          </a:prstGeom>
          <a:solidFill>
            <a:srgbClr val="ff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Jet Results (100 Ge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based on combined statistics from 1-4 M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300400" y="1863720"/>
            <a:ext cx="4624200" cy="4371840"/>
            <a:chOff x="2300400" y="1863720"/>
            <a:chExt cx="4624200" cy="43718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2300400" y="1965240"/>
              <a:ext cx="4624200" cy="42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832360" y="186372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392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arization Fill By Fill (100 Ge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2440" y="549756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rom fill by fill analysis using combined statistics from 1-4 M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32320" y="1281240"/>
            <a:ext cx="421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5240" y="958680"/>
            <a:ext cx="7243560" cy="44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mmetries By F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4809960"/>
            <a:ext cx="82296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By Fill asymme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table.  Fluctuation is 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e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4520" y="1055520"/>
            <a:ext cx="8253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09560" y="922320"/>
            <a:ext cx="5580360" cy="32450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 with Ru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273560"/>
            <a:ext cx="8229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jet is consistent between years, we can compare target asymme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asymmetries should be constant as Target polarization is 92.4% +/- 1.8% for both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in good compar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80560" y="1459080"/>
            <a:ext cx="145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un6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6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Run5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un5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Corrected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background assuming background is asymmetry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5600" y="2139840"/>
            <a:ext cx="59086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Jet Results (100 Ge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based on combined statistics from 1-4 Me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300400" y="1863720"/>
            <a:ext cx="4624200" cy="4371840"/>
            <a:chOff x="2300400" y="1863720"/>
            <a:chExt cx="4624200" cy="437184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300400" y="1965240"/>
              <a:ext cx="4624200" cy="42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832360" y="186372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atic 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asymXerror_10000_shuf_3.gif"/>
          <p:cNvPicPr/>
          <p:nvPr/>
        </p:nvPicPr>
        <p:blipFill>
          <a:blip r:embed="rId1"/>
          <a:srcRect l="50278" t="0" r="0" b="25752"/>
          <a:stretch/>
        </p:blipFill>
        <p:spPr>
          <a:xfrm>
            <a:off x="3794040" y="1519200"/>
            <a:ext cx="2571840" cy="42195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60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nch Shuffling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1880" y="1050480"/>
            <a:ext cx="3554280" cy="55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ize spin pattern, while retaining bunch yield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 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 in Gaussian shows level of syst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show slight deviation from 1, less than Run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asymXerror_10000_shuf_3.gif"/>
          <p:cNvPicPr/>
          <p:nvPr/>
        </p:nvPicPr>
        <p:blipFill>
          <a:blip r:embed="rId2"/>
          <a:srcRect l="0" t="25752" r="50278" b="0"/>
          <a:stretch/>
        </p:blipFill>
        <p:spPr>
          <a:xfrm>
            <a:off x="6350040" y="1568520"/>
            <a:ext cx="2571840" cy="4219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67040" y="146376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1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86400" y="144468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76680" y="2855880"/>
            <a:ext cx="125712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65880" y="2886120"/>
            <a:ext cx="125712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5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431640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0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3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92520" y="426096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5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1720" y="5621400"/>
            <a:ext cx="1707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asymXerror_10000_shuf_5.gif"/>
          <p:cNvPicPr/>
          <p:nvPr/>
        </p:nvPicPr>
        <p:blipFill>
          <a:blip r:embed="rId1"/>
          <a:srcRect l="50278" t="0" r="0" b="25752"/>
          <a:stretch/>
        </p:blipFill>
        <p:spPr>
          <a:xfrm>
            <a:off x="3849840" y="1542960"/>
            <a:ext cx="2546280" cy="4176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60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nch Shuffling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1880" y="1050480"/>
            <a:ext cx="3554280" cy="55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ize spin pattern, while retaining bunch yield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 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 in Gaussian shows level of syst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show slight deviation from 1, less than Run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asymXerror_10000_shuf_5.gif"/>
          <p:cNvPicPr/>
          <p:nvPr/>
        </p:nvPicPr>
        <p:blipFill>
          <a:blip r:embed="rId2"/>
          <a:srcRect l="0" t="25752" r="50278" b="0"/>
          <a:stretch/>
        </p:blipFill>
        <p:spPr>
          <a:xfrm>
            <a:off x="6383160" y="1585800"/>
            <a:ext cx="2548080" cy="4176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101720" y="5621400"/>
            <a:ext cx="1707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h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67040" y="146376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1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86400" y="144468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76680" y="2855880"/>
            <a:ext cx="125712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65880" y="2886120"/>
            <a:ext cx="125712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5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90800" y="431640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0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3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92520" y="4260960"/>
            <a:ext cx="1190880" cy="37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5&lt;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630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Jet Status in Run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G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mmetries &amp; Polar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 by F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nch Shuff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 Beam Asymmetries &amp; Pola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llow Beam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995400" y="4732200"/>
            <a:ext cx="2757600" cy="1738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52560" y="4572000"/>
            <a:ext cx="70632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ain sources of backgr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Scattering from Molecular Hydrog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assume unpolarized, then beam and target asymmetries differ.  Accounted for in polarization of target. (96%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2.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elastic 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for target, backward for beam so can be different.  Estimate possible asymme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Scattering from other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lutes both beam and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nsidering one beam, other is spin aver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ttering from target to our acceptance (light green) is backward scattering from target (or forward scattering from unpolarized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—so no spin depen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tudy Non-Ela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760" y="1065240"/>
            <a:ext cx="35118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wo peak strip for signal (r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trips closer to perpendicular for BG1 (pur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trips farther from perpendicular for BG2 (green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there is no acceptance above          2 Me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1 strip between peak and BG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967200" y="1119240"/>
            <a:ext cx="5089320" cy="5118120"/>
            <a:chOff x="3967200" y="1119240"/>
            <a:chExt cx="5089320" cy="511812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rcRect l="0" t="21460" r="57770" b="34342"/>
            <a:stretch/>
          </p:blipFill>
          <p:spPr>
            <a:xfrm>
              <a:off x="3967200" y="1119240"/>
              <a:ext cx="508932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919560" y="137304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01040" y="135108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07240" y="264636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22880" y="266076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29440" y="394020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99400" y="393876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97600" y="519120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29440" y="5189400"/>
              <a:ext cx="18216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242120" y="1378080"/>
            <a:ext cx="173160" cy="84744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51720" y="1370160"/>
            <a:ext cx="172800" cy="84744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812080" y="1371600"/>
            <a:ext cx="173160" cy="84780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21680" y="1363680"/>
            <a:ext cx="1731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34280" y="2676600"/>
            <a:ext cx="93600" cy="84780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64320" y="2668680"/>
            <a:ext cx="2793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906040" y="2670120"/>
            <a:ext cx="93600" cy="84780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36080" y="2662200"/>
            <a:ext cx="2793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53360" y="396720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83400" y="393372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89880" y="519912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59840" y="520524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09800" y="2055600"/>
            <a:ext cx="639720" cy="604800"/>
            <a:chOff x="3709800" y="2055600"/>
            <a:chExt cx="639720" cy="604800"/>
          </a:xfrm>
        </p:grpSpPr>
        <p:sp>
          <p:nvSpPr>
            <p:cNvPr id="200" name=""/>
            <p:cNvSpPr/>
            <p:nvPr/>
          </p:nvSpPr>
          <p:spPr>
            <a:xfrm flipV="1">
              <a:off x="3749040" y="2217600"/>
              <a:ext cx="0" cy="4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735720" y="2055600"/>
              <a:ext cx="599400" cy="14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10800000">
              <a:off x="3709800" y="2086200"/>
              <a:ext cx="639720" cy="131400"/>
            </a:xfrm>
            <a:prstGeom prst="rtTriangl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813120" y="1084320"/>
            <a:ext cx="568440" cy="534600"/>
            <a:chOff x="3813120" y="1084320"/>
            <a:chExt cx="568440" cy="534600"/>
          </a:xfrm>
        </p:grpSpPr>
        <p:sp>
          <p:nvSpPr>
            <p:cNvPr id="204" name=""/>
            <p:cNvSpPr/>
            <p:nvPr/>
          </p:nvSpPr>
          <p:spPr>
            <a:xfrm flipV="1">
              <a:off x="3825720" y="1227240"/>
              <a:ext cx="0" cy="39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813120" y="1084320"/>
              <a:ext cx="568440" cy="131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706200" y="3205800"/>
            <a:ext cx="726120" cy="676800"/>
            <a:chOff x="3706200" y="3205800"/>
            <a:chExt cx="726120" cy="676800"/>
          </a:xfrm>
        </p:grpSpPr>
        <p:sp>
          <p:nvSpPr>
            <p:cNvPr id="207" name=""/>
            <p:cNvSpPr/>
            <p:nvPr/>
          </p:nvSpPr>
          <p:spPr>
            <a:xfrm flipV="1">
              <a:off x="3782880" y="350820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768120" y="3371400"/>
              <a:ext cx="664200" cy="12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 rot="9885600">
              <a:off x="3708360" y="3296880"/>
              <a:ext cx="709200" cy="111240"/>
            </a:xfrm>
            <a:prstGeom prst="rtTriangl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rcRect l="0" t="0" r="49443" b="0"/>
          <a:stretch/>
        </p:blipFill>
        <p:spPr>
          <a:xfrm>
            <a:off x="774720" y="968400"/>
            <a:ext cx="2444760" cy="2816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0" t="0" r="49443" b="0"/>
          <a:stretch/>
        </p:blipFill>
        <p:spPr>
          <a:xfrm>
            <a:off x="5938920" y="1036800"/>
            <a:ext cx="2444760" cy="2815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0" t="0" r="49443" b="0"/>
          <a:stretch/>
        </p:blipFill>
        <p:spPr>
          <a:xfrm>
            <a:off x="3503520" y="957240"/>
            <a:ext cx="2444760" cy="28162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for different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31480" y="3860640"/>
            <a:ext cx="82170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G2 to estimate size of possible asymmetry in non-elastic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is asymmetry, and background contribution, estimate possible effect on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 polarization will scale with this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63760" y="12668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23120" y="1247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95400" y="1257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69240" y="660240"/>
            <a:ext cx="1273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target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eam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rget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a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1120" y="2801880"/>
            <a:ext cx="1790640" cy="4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672920" y="1985760"/>
            <a:ext cx="639720" cy="604800"/>
            <a:chOff x="1672920" y="1985760"/>
            <a:chExt cx="639720" cy="604800"/>
          </a:xfrm>
        </p:grpSpPr>
        <p:sp>
          <p:nvSpPr>
            <p:cNvPr id="221" name=""/>
            <p:cNvSpPr/>
            <p:nvPr/>
          </p:nvSpPr>
          <p:spPr>
            <a:xfrm flipV="1">
              <a:off x="1712160" y="2147760"/>
              <a:ext cx="0" cy="4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698840" y="1985760"/>
              <a:ext cx="599400" cy="14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 rot="10800000">
              <a:off x="1672920" y="2016360"/>
              <a:ext cx="639720" cy="131400"/>
            </a:xfrm>
            <a:prstGeom prst="rtTriangl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533840" y="2708280"/>
            <a:ext cx="568440" cy="534600"/>
            <a:chOff x="4533840" y="2708280"/>
            <a:chExt cx="568440" cy="534600"/>
          </a:xfrm>
        </p:grpSpPr>
        <p:sp>
          <p:nvSpPr>
            <p:cNvPr id="225" name=""/>
            <p:cNvSpPr/>
            <p:nvPr/>
          </p:nvSpPr>
          <p:spPr>
            <a:xfrm flipV="1">
              <a:off x="4546440" y="2851200"/>
              <a:ext cx="0" cy="39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533840" y="2708280"/>
              <a:ext cx="568440" cy="131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379640" y="2255040"/>
            <a:ext cx="726120" cy="676800"/>
            <a:chOff x="7379640" y="2255040"/>
            <a:chExt cx="726120" cy="676800"/>
          </a:xfrm>
        </p:grpSpPr>
        <p:sp>
          <p:nvSpPr>
            <p:cNvPr id="228" name=""/>
            <p:cNvSpPr/>
            <p:nvPr/>
          </p:nvSpPr>
          <p:spPr>
            <a:xfrm flipV="1">
              <a:off x="7456320" y="255744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7441560" y="2420640"/>
              <a:ext cx="664200" cy="12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 rot="9885600">
              <a:off x="7381800" y="2346120"/>
              <a:ext cx="709200" cy="111240"/>
            </a:xfrm>
            <a:prstGeom prst="rtTriangl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 of systematic uncertainty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100 Ge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8229600" cy="46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Polariz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.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s for molecular hydrogen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elastic Background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: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: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eam Backgroun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utes both asymmetries.  Analytic calculations shows effect on polarization is &lt;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1 G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100 G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s are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726768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in B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31480" y="1441440"/>
            <a:ext cx="239076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s in blue similar to 100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ded green are signal str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0" t="8584" r="0" b="0"/>
          <a:stretch/>
        </p:blipFill>
        <p:spPr>
          <a:xfrm>
            <a:off x="3146400" y="949320"/>
            <a:ext cx="5997600" cy="5270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774880" y="97776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52920" y="161280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52920" y="225108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72000" y="289080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9680" y="352584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49680" y="416412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86040" y="485460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4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64080" y="548964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098200" y="6218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1 GeV Blue A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4311720"/>
            <a:ext cx="8408880" cy="18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 in blue beam is reaso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Blue beam polar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0.46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69240" y="1601640"/>
            <a:ext cx="1273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target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eam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rget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a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093760" y="993600"/>
            <a:ext cx="574992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726768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Problem in Yel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31840" y="1441440"/>
            <a:ext cx="2425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s much larger in Yellow b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 is not entirely cl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ffect beam polarization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0" t="8584" r="0" b="0"/>
          <a:stretch/>
        </p:blipFill>
        <p:spPr>
          <a:xfrm>
            <a:off x="2968560" y="984240"/>
            <a:ext cx="6175440" cy="5424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098200" y="6218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4880" y="114948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52920" y="178452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52920" y="242244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72000" y="306216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49680" y="369720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49680" y="433548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86040" y="502596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4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64080" y="5661000"/>
            <a:ext cx="94104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0&lt;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403280" y="1047600"/>
            <a:ext cx="6648480" cy="38674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1 GeV Yellow A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920840"/>
            <a:ext cx="822960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llow beam has large background which clearly affects measured asymmetry of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imply that effective target polarization is different from 92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extraction of beam polarization is unrel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69240" y="1589040"/>
            <a:ext cx="1273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target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eam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rget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a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get elastic pro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79200"/>
            <a:ext cx="4811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non-relativistic kinematics, we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ecoi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ecoil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ass of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oF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related giving us a “banana” 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ally scattered protons will have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rrelation, i.e.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trip cor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51000" y="4863960"/>
            <a:ext cx="2492640" cy="157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0" r="87126" b="67137"/>
          <a:stretch/>
        </p:blipFill>
        <p:spPr>
          <a:xfrm>
            <a:off x="6041880" y="993600"/>
            <a:ext cx="2916360" cy="530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12271" t="0" r="74850" b="67137"/>
          <a:stretch/>
        </p:blipFill>
        <p:spPr>
          <a:xfrm>
            <a:off x="6041880" y="993600"/>
            <a:ext cx="2916360" cy="5301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24541" t="0" r="62585" b="67137"/>
          <a:stretch/>
        </p:blipFill>
        <p:spPr>
          <a:xfrm>
            <a:off x="6041880" y="992160"/>
            <a:ext cx="2944800" cy="5302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rcRect l="36807" t="0" r="50309" b="67137"/>
          <a:stretch/>
        </p:blipFill>
        <p:spPr>
          <a:xfrm>
            <a:off x="6041880" y="992160"/>
            <a:ext cx="2944800" cy="5302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rcRect l="49082" t="0" r="38039" b="67137"/>
          <a:stretch/>
        </p:blipFill>
        <p:spPr>
          <a:xfrm>
            <a:off x="6041880" y="992160"/>
            <a:ext cx="2944800" cy="530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rcRect l="61353" t="0" r="25768" b="67137"/>
          <a:stretch/>
        </p:blipFill>
        <p:spPr>
          <a:xfrm>
            <a:off x="6041880" y="992160"/>
            <a:ext cx="2944800" cy="5302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rcRect l="73623" t="0" r="13498" b="67137"/>
          <a:stretch/>
        </p:blipFill>
        <p:spPr>
          <a:xfrm>
            <a:off x="6041880" y="993600"/>
            <a:ext cx="2944800" cy="5299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82040" y="6097680"/>
            <a:ext cx="110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5773320" y="1314720"/>
            <a:ext cx="4546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 (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5803920" y="3865320"/>
            <a:ext cx="4546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 (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98240" y="3471840"/>
            <a:ext cx="110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1459080" y="1666800"/>
            <a:ext cx="27748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1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symme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4813200"/>
            <a:ext cx="9144000" cy="16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 and yellow beam asymmetries are 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asymmetries are quite different, due to back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Yellow target asymmetry is unreliable at 31 GeV, we must use Blue beam to normali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ha will discuss additional uncertainty due to this more, but is ~2.2  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08160" y="993600"/>
            <a:ext cx="6648480" cy="3867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869240" y="1589040"/>
            <a:ext cx="1273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target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eam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rget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a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02600" y="6035760"/>
            <a:ext cx="155520" cy="155520"/>
          </a:xfrm>
          <a:prstGeom prst="flowChar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Non-Elastic at 31 G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8000" y="1065240"/>
            <a:ext cx="351144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ame as at 100 Ge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wo peak strip for signal (r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rips closer to perpendicular for BG1 (purp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rips farther from perpendicular for BG2 (green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re is no acceptance above          2 M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1 strip between peak and BG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844800" y="1119240"/>
            <a:ext cx="5089680" cy="5118120"/>
            <a:chOff x="3844800" y="1119240"/>
            <a:chExt cx="5089680" cy="51181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rcRect l="0" t="21460" r="57770" b="34342"/>
            <a:stretch/>
          </p:blipFill>
          <p:spPr>
            <a:xfrm>
              <a:off x="3844800" y="1119240"/>
              <a:ext cx="508968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797520" y="1373040"/>
              <a:ext cx="18288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79000" y="135108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85200" y="264636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00840" y="266076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07400" y="394020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577360" y="393876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575560" y="519120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07400" y="518940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7102440" y="1378080"/>
            <a:ext cx="173160" cy="84744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12040" y="1370160"/>
            <a:ext cx="172800" cy="84744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672400" y="1371600"/>
            <a:ext cx="173160" cy="84780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82000" y="1363680"/>
            <a:ext cx="1731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94600" y="2676600"/>
            <a:ext cx="93600" cy="84780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24640" y="2668680"/>
            <a:ext cx="2793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766000" y="2670120"/>
            <a:ext cx="93960" cy="847800"/>
          </a:xfrm>
          <a:prstGeom prst="rect">
            <a:avLst/>
          </a:prstGeom>
          <a:solidFill>
            <a:srgbClr val="99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096400" y="2662200"/>
            <a:ext cx="2793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13680" y="396720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543720" y="393372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50200" y="519912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20160" y="5205240"/>
            <a:ext cx="345960" cy="847800"/>
          </a:xfrm>
          <a:prstGeom prst="rect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076800" y="1031760"/>
            <a:ext cx="2428920" cy="28497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517920" y="1030320"/>
            <a:ext cx="2428920" cy="28494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797040" y="974880"/>
            <a:ext cx="2428920" cy="28494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5680" y="-360"/>
            <a:ext cx="77295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for different regions: 31 G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31480" y="3860640"/>
            <a:ext cx="82170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G2 to estimate size of possible asymmetry in non-elastic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is asymmetry, and background contribution, estimate possible effect on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 polarization will scale with this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63760" y="12668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23120" y="1247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74840" y="11365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869240" y="660240"/>
            <a:ext cx="1273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target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beam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rget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eam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1120" y="2595600"/>
            <a:ext cx="1565280" cy="67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138400" y="195264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120760" y="1763280"/>
            <a:ext cx="776520" cy="17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 rot="10800000">
            <a:off x="2087640" y="1799280"/>
            <a:ext cx="828720" cy="153720"/>
          </a:xfrm>
          <a:prstGeom prst="rtTriangl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395960" y="282888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378320" y="2639520"/>
            <a:ext cx="776160" cy="17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537320" y="2309760"/>
            <a:ext cx="0" cy="5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520040" y="2120400"/>
            <a:ext cx="776160" cy="17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 rot="9885600">
            <a:off x="7449840" y="2017440"/>
            <a:ext cx="828720" cy="154080"/>
          </a:xfrm>
          <a:prstGeom prst="rtTriangl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 of systematic uncertainty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31 GeV for </a:t>
            </a: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BL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a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02840"/>
            <a:ext cx="8229600" cy="46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Polariz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.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s for molecular hydrogen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elastic Background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: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eam Backgroun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utes both asymmetries.  Analytic calculations shows effect on polarization is &lt;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sults at 100 GeV are pres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normalizing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for target asymmetry consistent with Run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atic Uncertainty similar to Run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sult at 31 GeV a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 beam has low background, and will be used to normalize blue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beam has high backgroun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 polarization from Jet not rel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blue beam to normalize yellow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ha will discuss uncertainty due t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04720" y="1054080"/>
            <a:ext cx="5810400" cy="39052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65760" y="3922560"/>
            <a:ext cx="3162240" cy="25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ADC and TDC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ing trigger timing, so must acount for when trigger oc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ract of baseline from max AD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DC at ADC(TDC)=½ADCma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57320" y="4330800"/>
            <a:ext cx="2857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69920" y="2438280"/>
            <a:ext cx="2502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0640"/>
            <a:ext cx="0" cy="27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77840" y="4633920"/>
            <a:ext cx="82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9560" y="412596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20" y="2259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C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libration: 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ibration Runs for Run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04.4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506.40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/05      (End of 200 GeV run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612.4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/06    (six months after r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for all calibration runs, detector 5 is not working at all.  Detector 5 died ~ Apr.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5 calibrations are different from Run6, and so cannot be used for data before  April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636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libration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ame method as for Run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as we have 4 possible peaks, for each channel we have at most 4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274840" y="1633680"/>
            <a:ext cx="4700520" cy="6206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509840" y="3270240"/>
            <a:ext cx="6226200" cy="9590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1459080" y="4175280"/>
            <a:ext cx="609264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Jet Status During Run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ran with only one beam on targ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Beam was displaced vertically and horizont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ad (detector) out of six died on April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nergy calibration for this sensor in Run6, so excluded from th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00040" y="4059360"/>
            <a:ext cx="3794400" cy="239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46120" y="562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libration: 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470480" y="1065240"/>
            <a:ext cx="421632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DC distribution, extract peak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detectors have Gd and Am source (includes dead detector), 3 have only 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peak structure due to different entrance window thic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method described in the Run5 analysis note, we get energy calibration cons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1904401_peakADC.gif"/>
          <p:cNvPicPr/>
          <p:nvPr/>
        </p:nvPicPr>
        <p:blipFill>
          <a:blip r:embed="rId1"/>
          <a:stretch/>
        </p:blipFill>
        <p:spPr>
          <a:xfrm>
            <a:off x="203040" y="3772080"/>
            <a:ext cx="4034160" cy="26874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Section0.gif"/>
          <p:cNvPicPr/>
          <p:nvPr/>
        </p:nvPicPr>
        <p:blipFill>
          <a:blip r:embed="rId2"/>
          <a:stretch/>
        </p:blipFill>
        <p:spPr>
          <a:xfrm>
            <a:off x="150840" y="952560"/>
            <a:ext cx="4129200" cy="27511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1904401_calibconst.gif"/>
          <p:cNvPicPr/>
          <p:nvPr/>
        </p:nvPicPr>
        <p:blipFill>
          <a:blip r:embed="rId3"/>
          <a:stretch/>
        </p:blipFill>
        <p:spPr>
          <a:xfrm>
            <a:off x="4853160" y="3710160"/>
            <a:ext cx="4127400" cy="27493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 flipH="1">
            <a:off x="4586760" y="3967200"/>
            <a:ext cx="33264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 Constants (Me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76520" y="6108840"/>
            <a:ext cx="53316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84000" y="568476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49240" y="223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73320" y="14842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82720" y="16286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4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F Calibration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dea:  Compare measured ToF (TDC*2.38 ns) with expected ToF from a proton with the measured energy assuming non relativistic kin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plot histogram of To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al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o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en extract calibration co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ty is one step more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828880" y="3125880"/>
            <a:ext cx="36511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28600" y="905040"/>
            <a:ext cx="7415280" cy="56829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F Calibration:  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2806560"/>
            <a:ext cx="330120" cy="457200"/>
          </a:xfrm>
          <a:prstGeom prst="rightArrow">
            <a:avLst>
              <a:gd name="adj1" fmla="val 50000"/>
              <a:gd name="adj2" fmla="val 627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1790640"/>
            <a:ext cx="330120" cy="457200"/>
          </a:xfrm>
          <a:prstGeom prst="rightArrow">
            <a:avLst>
              <a:gd name="adj1" fmla="val 50000"/>
              <a:gd name="adj2" fmla="val 627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730640" y="23097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so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-38160" y="3822840"/>
            <a:ext cx="7937640" cy="30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24280" y="331308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0800000">
            <a:off x="-127080" y="1170360"/>
            <a:ext cx="49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4302000" y="3154680"/>
            <a:ext cx="49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0800000">
            <a:off x="2488680" y="1031400"/>
            <a:ext cx="4921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e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o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91960" y="905040"/>
            <a:ext cx="7415280" cy="5682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F Calibration: 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705040" y="2044800"/>
            <a:ext cx="316080" cy="436320"/>
          </a:xfrm>
          <a:prstGeom prst="rightArrow">
            <a:avLst>
              <a:gd name="adj1" fmla="val 50000"/>
              <a:gd name="adj2" fmla="val 627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3667680" y="3533040"/>
            <a:ext cx="315720" cy="438120"/>
          </a:xfrm>
          <a:prstGeom prst="rightArrow">
            <a:avLst>
              <a:gd name="adj1" fmla="val 50000"/>
              <a:gd name="adj2" fmla="val 627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730640" y="23097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so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29560" y="49957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3962520"/>
            <a:ext cx="1440" cy="2585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3962520"/>
            <a:ext cx="1440" cy="2585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4493160" y="3469320"/>
            <a:ext cx="316080" cy="438120"/>
          </a:xfrm>
          <a:prstGeom prst="rightArrow">
            <a:avLst>
              <a:gd name="adj1" fmla="val 50000"/>
              <a:gd name="adj2" fmla="val 627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2379000">
            <a:off x="5063760" y="3548160"/>
            <a:ext cx="393840" cy="293760"/>
          </a:xfrm>
          <a:prstGeom prst="rightArrow">
            <a:avLst>
              <a:gd name="adj1" fmla="val 50000"/>
              <a:gd name="adj2" fmla="val 840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F Calibration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065240"/>
            <a:ext cx="293364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 dots are for yellow beam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e red dots which are the other beam, and not well calibr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left to right are the 6 detectors (1 is dead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at left is in very low energy protons, which have problems due to energy loss at the entrance window of silicon, and due to magnetic field affecting traveled 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457440" y="1025640"/>
            <a:ext cx="56865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742464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per strip (Yellow beam, 100 G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353960"/>
            <a:ext cx="33066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signal region based on two strips with maximum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wo strips to reduce background cont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860640" y="1001880"/>
            <a:ext cx="52833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1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. Error due to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37339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sult, we use two strips correlated with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ion factor due to molecular hydrogen component reduces target polarization (main background source) from 96% to 92.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is assumes molecular hydrogen component is not polarized.  If background is polarized, directly affect measur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systematic uncertainty in polarization by varying amount of background (i.e use fewer or more stri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show increase in ratio as more background is inclu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370400" y="3689280"/>
            <a:ext cx="4773600" cy="27799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4370400" y="933480"/>
            <a:ext cx="47736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From Run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5240"/>
            <a:ext cx="29844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lanning on showing this Friday, but just for compar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eg used maximum difference as systematic error (1.1%/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un6, this would give 1.8%/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517920" y="1017720"/>
            <a:ext cx="5326200" cy="25444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517920" y="3749760"/>
            <a:ext cx="5278320" cy="2643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8496360" y="1765440"/>
            <a:ext cx="46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112160" y="2158920"/>
            <a:ext cx="17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8750160" y="17654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879320" y="1776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2200" y="33480"/>
            <a:ext cx="90788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t that inelastic effect is 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3348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31 GeV any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s are very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rrect both results for backgrounds assuming 0 asymmetry in background, results agree within st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rcRect l="0" t="0" r="49443" b="0"/>
          <a:stretch/>
        </p:blipFill>
        <p:spPr>
          <a:xfrm>
            <a:off x="190440" y="2616120"/>
            <a:ext cx="3365640" cy="38768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rcRect l="0" t="0" r="49443" b="0"/>
          <a:stretch/>
        </p:blipFill>
        <p:spPr>
          <a:xfrm>
            <a:off x="3440160" y="2631960"/>
            <a:ext cx="3365280" cy="3876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385280" y="22780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59280" y="23162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25520" y="3794040"/>
            <a:ext cx="450720" cy="149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49160" y="4317840"/>
            <a:ext cx="249084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33640" y="4118040"/>
            <a:ext cx="124596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92520" y="3762360"/>
            <a:ext cx="451080" cy="14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16520" y="4286160"/>
            <a:ext cx="249048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00640" y="4086360"/>
            <a:ext cx="124596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s (Banana plots): 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916240"/>
            <a:ext cx="822960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ana cut of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lied around proton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55800" y="1201680"/>
            <a:ext cx="6229080" cy="4440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289640" y="934920"/>
            <a:ext cx="1854360" cy="1170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21720" y="5527800"/>
            <a:ext cx="110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81040" y="1295640"/>
            <a:ext cx="4546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 (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per strip (Blue bea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53960"/>
            <a:ext cx="33066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signal region based on two strips with maximum y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wo strips to reduce background cont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60640" y="1144440"/>
            <a:ext cx="5283360" cy="5080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438320" y="60642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p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0280" y="1387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55160" y="138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78760" y="1349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6120" y="140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5160" y="1419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49120" y="1401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914640" y="1308240"/>
            <a:ext cx="5089680" cy="5118120"/>
            <a:chOff x="3914640" y="1308240"/>
            <a:chExt cx="5089680" cy="5118120"/>
          </a:xfrm>
        </p:grpSpPr>
        <p:pic>
          <p:nvPicPr>
            <p:cNvPr id="87" name="" descr=""/>
            <p:cNvPicPr/>
            <p:nvPr/>
          </p:nvPicPr>
          <p:blipFill>
            <a:blip r:embed="rId2"/>
            <a:srcRect l="0" t="21460" r="57770" b="34342"/>
            <a:stretch/>
          </p:blipFill>
          <p:spPr>
            <a:xfrm>
              <a:off x="3914640" y="1308240"/>
              <a:ext cx="508968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867360" y="1562040"/>
              <a:ext cx="18288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448840" y="154008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555040" y="283536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70680" y="284976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77240" y="412920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47200" y="412776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45400" y="538020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77240" y="5378400"/>
              <a:ext cx="182520" cy="85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64880"/>
            <a:ext cx="533412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imple square root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two different asymme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Target polarized, beam unpolar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e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arget unpolarized, beam polar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between two asymmetries, scaled by target polarization, gives beam polar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2.4% +/- 1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52560" y="1488960"/>
            <a:ext cx="3841920" cy="9432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782720" y="4659480"/>
            <a:ext cx="3241800" cy="917280"/>
            <a:chOff x="1782720" y="4659480"/>
            <a:chExt cx="3241800" cy="9172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2701800" y="4659480"/>
              <a:ext cx="140184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4068720" y="5008680"/>
              <a:ext cx="95580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1782720" y="4900680"/>
              <a:ext cx="955800" cy="43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865840" y="2585880"/>
            <a:ext cx="2986200" cy="3610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10800000">
            <a:off x="5689080" y="2871000"/>
            <a:ext cx="45468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 Energy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065240"/>
            <a:ext cx="51577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sult, use only 1-4 MeV 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ve 4 GeV, protons may punch through detector, and so reconstructed energy is in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1 GeV, ToF calibration is not reliable, as particle path is affected by magnetic holding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935680" y="1843200"/>
            <a:ext cx="2986200" cy="3609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624720" y="2070000"/>
            <a:ext cx="1293840" cy="2916360"/>
          </a:xfrm>
          <a:prstGeom prst="rect">
            <a:avLst/>
          </a:prstGeom>
          <a:solidFill>
            <a:srgbClr val="ff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5742000" y="2318400"/>
            <a:ext cx="45468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G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1:25:31Z</dcterms:created>
  <dc:creator>Kieran </dc:creator>
  <dc:description/>
  <dc:language>en-US</dc:language>
  <cp:lastModifiedBy>Kieran </cp:lastModifiedBy>
  <dcterms:modified xsi:type="dcterms:W3CDTF">2007-11-15T13:58:35Z</dcterms:modified>
  <cp:revision>49</cp:revision>
  <dc:subject/>
  <dc:title>Slide 1</dc:title>
</cp:coreProperties>
</file>