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33.png" ContentType="image/png"/>
  <Override PartName="/ppt/media/image34.png" ContentType="image/png"/>
  <Override PartName="/ppt/media/image36.png" ContentType="image/png"/>
  <Override PartName="/ppt/media/image12.png" ContentType="image/png"/>
  <Override PartName="/ppt/media/image4.pct" ContentType="image/x-pict"/>
  <Override PartName="/ppt/media/image5.png" ContentType="image/png"/>
  <Override PartName="/ppt/media/image35.png" ContentType="image/png"/>
  <Override PartName="/ppt/media/image2.pct" ContentType="image/x-pict"/>
  <Override PartName="/ppt/media/image30.png" ContentType="image/png"/>
  <Override PartName="/ppt/media/image3.jpeg" ContentType="image/jpeg"/>
  <Override PartName="/ppt/media/image15.png" ContentType="image/png"/>
  <Override PartName="/ppt/media/image17.pct" ContentType="image/x-pict"/>
  <Override PartName="/ppt/media/image29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ja-JP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360" y="7646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8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ACC1F839-53B9-41ED-82F2-4A4AC34D9F1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8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他の重イオン衝突の結果と比較してビームエネルギー依存を見ました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IX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以外の結果は、私がフィットした値ではなく、論文で示された値を用いてい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1B56E7B4-8200-46BF-83C1-972F827D7E5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DE9-34B7-4B4C-A73A-BFF8B699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C6F-527B-4E0C-8FBB-C1BE3FC2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0BB-3751-463A-8517-F71C7FA2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51E-BC3A-4E54-B307-687023B8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E09C-8EAC-4293-9A35-D66F3018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846A-7761-4BCC-9B97-CA405F39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14F5-74FB-41BA-AA59-F3235270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4916-6B55-4870-BB92-7E4648FD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C286-57D5-4833-A429-651110F0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609480"/>
            <a:ext cx="84330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AC4F-D0D1-4835-93BF-A3A13705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1AF1-B159-4D94-88C3-181D908E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0E2-7760-4F83-9F70-0B09F952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DCCD-0147-4461-A348-B1CA8451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1EFD-7D13-4F82-9126-B1D4E547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D730-593D-4526-9F90-A221D90A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F282-B571-49F5-9E1F-2D33F809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ABFE-1E45-4ECB-A0D5-B6D01C5C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D2D-10B1-4597-A2A9-0F14B157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2ED-A11C-46CC-960F-204F12CB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7EF8-9157-40AF-AA3E-E63AD15E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609480"/>
            <a:ext cx="84330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B7A-78FE-4C72-8969-1E803745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466-2C24-4CF5-972F-FEED2C5D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ED0-FEEF-4274-B8BF-8040BE40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2F7-272F-4679-890E-04A27B8B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30400" cy="714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657600" y="7596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08560" y="6477120"/>
            <a:ext cx="3759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962520" y="6477120"/>
            <a:ext cx="1117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1225-4003-4057-B0FC-3F2534252ED8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667720" y="0"/>
            <a:ext cx="4762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6E37-58FF-46C8-96C2-B5AD2FF2D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31840" cy="7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424720" y="0"/>
            <a:ext cx="719280" cy="91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ng"/><Relationship Id="rId3" Type="http://schemas.openxmlformats.org/officeDocument/2006/relationships/image" Target="../media/image17.pct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06640" y="556272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Times New Roman"/>
              </a:rPr>
              <a:t>JPS fall Meeting at Kochi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Times New Roman"/>
              </a:rPr>
              <a:t>September 29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3716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adial Flow Study via Identified Hadron Spectra in Au+Au collis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63560" y="4282920"/>
            <a:ext cx="39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kio Kiyomich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IKE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PHENIX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32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553080" y="3886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28880" y="1219320"/>
            <a:ext cx="7277040" cy="52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429680" y="3776760"/>
            <a:ext cx="533160" cy="838080"/>
          </a:xfrm>
          <a:custGeom>
            <a:avLst/>
            <a:gdLst/>
            <a:ahLst/>
            <a:rect l="l" t="t" r="r" b="b"/>
            <a:pathLst>
              <a:path w="448" h="528">
                <a:moveTo>
                  <a:pt x="0" y="0"/>
                </a:moveTo>
                <a:cubicBezTo>
                  <a:pt x="108" y="44"/>
                  <a:pt x="216" y="88"/>
                  <a:pt x="288" y="144"/>
                </a:cubicBezTo>
                <a:cubicBezTo>
                  <a:pt x="360" y="200"/>
                  <a:pt x="416" y="272"/>
                  <a:pt x="432" y="336"/>
                </a:cubicBezTo>
                <a:cubicBezTo>
                  <a:pt x="448" y="400"/>
                  <a:pt x="416" y="464"/>
                  <a:pt x="384" y="528"/>
                </a:cubicBezTo>
              </a:path>
            </a:pathLst>
          </a:custGeom>
          <a:noFill/>
          <a:ln w="44280">
            <a:solidFill>
              <a:srgbClr val="000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658280" y="3090960"/>
            <a:ext cx="0" cy="838080"/>
          </a:xfrm>
          <a:prstGeom prst="line">
            <a:avLst/>
          </a:prstGeom>
          <a:ln w="50760">
            <a:solidFill>
              <a:srgbClr val="000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38098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3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ontour levels are shown in each centr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1295280"/>
            <a:ext cx="78487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1384200"/>
            <a:ext cx="4646520" cy="3340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0" y="1120680"/>
            <a:ext cx="4541760" cy="43592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7720" y="5333760"/>
            <a:ext cx="7696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 of expansion is obser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central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t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peripheral :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ncreas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628560"/>
            <a:ext cx="84326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entrality dependence of T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fo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and &lt;</a:t>
            </a:r>
            <a:r>
              <a:rPr b="1" i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F81-B613-453D-88ED-0A6C4BFFF0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identified charged hadron spec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+Au 130GeV: Phys.Rev.C69 024904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+Au 200GeV: Phys.Rev.C69 034909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-dynamical model fit to the spectra with resonance decay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ence of expansion is ob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central 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t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peripheral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 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increase,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&lt;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most cent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+Au 200GeV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108MeV, &lt;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 = 0.5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+Au 130GeV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134MeV, &lt;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 = 0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u+Au 62.4GeV, p+p 200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FAE-6E41-4F00-A4FC-EED022FD66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2438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3124080"/>
            <a:ext cx="470844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USA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Abilene Christian University, Abilen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Brookhaven National Laboratory, Upt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University of California - Riverside, Riversid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University of Colorado, Boulder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Columbia University, Nevis Laboratories, Irvingt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Florida State University, Tallahassee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Florida Technical University, Melbourne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Georgia State University, Atlanta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University of Illinois Urbana Champaign, Urbana-Champaig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Iowa State University and Ames Laboratory, Ames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Los Alamos National Laboratory, Los Alamos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Lawrence Livermore National Laboratory, 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University of New Mexico, 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New Mexico State University, Las Cruces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Dept. of Chemistry, Stony Brook Univ., Stony Brook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Dept. Phys. and Astronomy, Stony Brook Univ., Stony Brook, NY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Oak Ridge National Laboratory, Oak Ridge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University of Tennessee, Knoxville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Vanderbilt University, Nashville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365040"/>
            <a:ext cx="472428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zil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São Paulo, São Pa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China</a:t>
            </a: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Academia Sinica, Taipei, Taiw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China Institute of Atomic Energy, Beij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Peking University, Beij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France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LPC, University de Clermont-Ferrand, Clermont-Ferr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Dapnia, CEA Saclay, Gif-sur-Yv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IPN-Orsay, Universite Paris Sud, CNRS-IN2P3, Ors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LLR, Ecòle Polytechnique, CNRS-IN2P3, Palais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UBATECH, Ecòle des Mines at Nantes, N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Germany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University of M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  <a:ea typeface="Arial"/>
              </a:rPr>
              <a:t>ü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nster, M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  <a:ea typeface="Arial"/>
              </a:rPr>
              <a:t>ü</a:t>
            </a:r>
            <a:r>
              <a:rPr b="1" lang="en-US" sz="1000" spc="-1" strike="noStrike">
                <a:solidFill>
                  <a:srgbClr val="0e9c2c"/>
                </a:solidFill>
                <a:latin typeface="Arial"/>
              </a:rPr>
              <a:t>n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gar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ntral Research Institute for Physics (KFKI), Budap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brecen University, Debrec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ötvös Loránd University (ELTE), Budape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India</a:t>
            </a: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Banaras Hindu University, Bana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Bhabha Atomic Research Centre, Bomb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Israel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Weizmann Institute, Rehov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Japan</a:t>
            </a: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Center for Nuclear Study, University of Tokyo, Toky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Hiroshima University, Higashi-Hirosh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KEK, Institute for High Energy Physics, Tsuku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Kyoto University, Kyo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Nagasaki Institute of Applied Science, Nagasa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RIKEN, Institute for Physical and Chemical Research, Wa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RIKEN-BNL Research Center, Upt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Rikkyo University, Toky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Tokyo Institute of Technology, Toky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University of Tsukuba, Tsuku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2a9c28"/>
                </a:solidFill>
                <a:latin typeface="Arial"/>
              </a:rPr>
              <a:t>Waseda University, Tokyo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. Kore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yclotron Application Laboratory, KAERI, Seo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gnung National University, Kangn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orea University, Seo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yong Ji University, Yongin C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Electronics Laboratory, Seoul Nat. University, Seo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onsei University, Seo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Russia</a:t>
            </a: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Institute of High Energy Physics, Protovi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Joint Institute for Nuclear Research, Dub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Kurchatov Institute, Mosc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PNPI, St. Petersburg Nuclear Physics Institute, St. Petersbu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cc0808"/>
                </a:solidFill>
                <a:latin typeface="Arial"/>
              </a:rPr>
              <a:t>St. Petersburg State Technical University, St. Petersbu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weden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Lund University, L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0" r="0" b="5264"/>
          <a:stretch/>
        </p:blipFill>
        <p:spPr>
          <a:xfrm>
            <a:off x="5638680" y="0"/>
            <a:ext cx="3424320" cy="2373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467160" y="0"/>
            <a:ext cx="2324160" cy="847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191120" y="2473200"/>
            <a:ext cx="4876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12 Countries;  58 Institutions;  480 Participants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17280" y="6467400"/>
            <a:ext cx="18464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as of Jan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58E-E5A5-44A4-91A8-9B5CC47C054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3656160" cy="5691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191120" y="838080"/>
            <a:ext cx="4317840" cy="414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u+Au 130Ge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86200" y="5105160"/>
            <a:ext cx="4952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taneous fit to spectra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K,p (Au+Au 130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9920" y="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BC4-5F6F-4202-96DF-EEB941DE16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8440" y="1143000"/>
            <a:ext cx="5153040" cy="3494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091120" y="1219320"/>
            <a:ext cx="3976560" cy="2697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eam energy dependenc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entral event of Au+Au (AGS,RHIC) or Pb+Pb (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l flow: Slightly increases from 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~0.45 (AGS) to ~0.5 (SPS), ~0.55(RHIC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: 100~120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16920" y="6276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186-79DE-4749-BD6C-FEC26BA54B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8000" y="762120"/>
            <a:ext cx="3778200" cy="5879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038480" y="2895480"/>
            <a:ext cx="5052960" cy="3630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038120" y="1142640"/>
            <a:ext cx="4876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taneous fit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K,p and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our for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lap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K,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m to be commo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it with phi mes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3600" y="14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-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2806560"/>
            <a:ext cx="31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Courier New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Courier New"/>
              </a:rPr>
              <a:t>-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o be submitted to P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93240" y="2514600"/>
            <a:ext cx="2725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 Au+Au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754-284C-4C1B-84A0-426784784C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3657600"/>
            <a:ext cx="4851360" cy="312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216320" y="685800"/>
            <a:ext cx="4851360" cy="3124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it with phi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9920" y="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5400" y="1447920"/>
            <a:ext cx="4019400" cy="4876560"/>
            <a:chOff x="95400" y="1447920"/>
            <a:chExt cx="4019400" cy="4876560"/>
          </a:xfrm>
        </p:grpSpPr>
        <p:sp>
          <p:nvSpPr>
            <p:cNvPr id="231" name=""/>
            <p:cNvSpPr/>
            <p:nvPr/>
          </p:nvSpPr>
          <p:spPr>
            <a:xfrm>
              <a:off x="95400" y="1933560"/>
              <a:ext cx="4019400" cy="43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71360" y="2014200"/>
              <a:ext cx="600120" cy="2424240"/>
              <a:chOff x="171360" y="2014200"/>
              <a:chExt cx="600120" cy="242424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458640" y="3865320"/>
                <a:ext cx="1800" cy="57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458640" y="3185640"/>
                <a:ext cx="1800" cy="64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920" y="19144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15800" y="2131200"/>
                <a:ext cx="72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90360" y="2626200"/>
                <a:ext cx="732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[(GeV/</a:t>
                </a:r>
                <a:r>
                  <a:rPr b="0" i="1" lang="en-US" sz="1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588600" y="3292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588600" y="403056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558000" y="42350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6200000">
                <a:off x="257760" y="401580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200000">
                <a:off x="342360" y="205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6200000">
                <a:off x="356040" y="2113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200000">
                <a:off x="345240" y="22741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200000">
                <a:off x="212040" y="3443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200000">
                <a:off x="504000" y="3157560"/>
                <a:ext cx="2293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Arial"/>
                  </a:rPr>
                  <a:t>dy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6200000">
                <a:off x="468000" y="3530880"/>
                <a:ext cx="30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Arial"/>
                  </a:rPr>
                  <a:t>d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200000">
                <a:off x="239400" y="32623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6200000">
                <a:off x="257760" y="35125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200000">
                <a:off x="528120" y="3920400"/>
                <a:ext cx="1807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6200000">
                <a:off x="655920" y="341712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564120" y="387432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200000">
                <a:off x="533160" y="4134240"/>
                <a:ext cx="1195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54" name="" descr=""/>
            <p:cNvPicPr/>
            <p:nvPr/>
          </p:nvPicPr>
          <p:blipFill>
            <a:blip r:embed="rId3"/>
            <a:srcRect l="28966" t="8812" r="6704" b="21858"/>
            <a:stretch/>
          </p:blipFill>
          <p:spPr>
            <a:xfrm>
              <a:off x="1214280" y="1996920"/>
              <a:ext cx="2752920" cy="35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1110600" y="5506920"/>
              <a:ext cx="297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5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49920" y="5799240"/>
              <a:ext cx="193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– mass [GeV/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n-U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3000" y="2471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1640" y="305280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1640" y="363384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640" y="420516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1640" y="475776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1640" y="538632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1640" y="1919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95600" y="1752480"/>
              <a:ext cx="21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 be submitted to P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45240" y="1447920"/>
              <a:ext cx="2725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ENIX Au+Au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N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200 Ge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49080" y="486396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5F1-D140-4E07-817D-A828AA21E61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vidence for equilibrated final stat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537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most complete reconstruction of hadronic state when system  decouples by the statistical thermal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t yields vs. mass (grand canonical ensem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000" spc="-1" strike="noStrike" baseline="-20000">
                <a:solidFill>
                  <a:srgbClr val="0000ff"/>
                </a:solidFill>
                <a:latin typeface="Arial"/>
              </a:rPr>
              <a:t>ch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177 MeV,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29 MeV @ 200 GeV central Au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9920" y="76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3B6-EFD5-4CBC-9F5D-C5BED4CD3A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670120" y="1143000"/>
            <a:ext cx="6473880" cy="43862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clusive 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spectr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5790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inclusiv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tra for each particles, each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320" y="1828800"/>
            <a:ext cx="2590560" cy="2311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na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anti-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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ti-K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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ant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9920" y="76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4FD-176D-419B-9DC1-5DFB7A37A0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670120" y="1143000"/>
            <a:ext cx="6473880" cy="4384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clusive 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spectr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5790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inclusiv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tra for each particles, each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1828800"/>
            <a:ext cx="2590560" cy="2311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na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anti-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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ti-K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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ant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9920" y="76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62B-EE1E-4278-B54F-9A2447B2CB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d charged hadron spectra at R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tra : Having the entire history of dynamical evolu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ty dependence of spectra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vs. particle mass, centr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ze-out temperature and expansion velocity(radial flo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 identified charged hadr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tra in Au+Au collisions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00 GeV (run-2) and 130 GeV(run-1) from PHEN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e-out temperature and expansion velocity based on the hydro-dynamical mod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particle spectra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K,p are described by common temperature and velo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ty dependence, beam energy depend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AB6-2B67-49D7-9D78-C23A955045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fo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vs. &lt;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5840" cy="5443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391520" y="3657600"/>
            <a:ext cx="533160" cy="838080"/>
          </a:xfrm>
          <a:custGeom>
            <a:avLst/>
            <a:gdLst/>
            <a:ahLst/>
            <a:rect l="l" t="t" r="r" b="b"/>
            <a:pathLst>
              <a:path w="448" h="528">
                <a:moveTo>
                  <a:pt x="0" y="0"/>
                </a:moveTo>
                <a:cubicBezTo>
                  <a:pt x="108" y="44"/>
                  <a:pt x="216" y="88"/>
                  <a:pt x="288" y="144"/>
                </a:cubicBezTo>
                <a:cubicBezTo>
                  <a:pt x="360" y="200"/>
                  <a:pt x="416" y="272"/>
                  <a:pt x="432" y="336"/>
                </a:cubicBezTo>
                <a:cubicBezTo>
                  <a:pt x="448" y="400"/>
                  <a:pt x="416" y="464"/>
                  <a:pt x="384" y="528"/>
                </a:cubicBezTo>
              </a:path>
            </a:pathLst>
          </a:custGeom>
          <a:noFill/>
          <a:ln w="44280">
            <a:solidFill>
              <a:srgbClr val="000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620120" y="2971800"/>
            <a:ext cx="0" cy="838080"/>
          </a:xfrm>
          <a:prstGeom prst="line">
            <a:avLst/>
          </a:prstGeom>
          <a:ln w="50760">
            <a:solidFill>
              <a:srgbClr val="000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9920" y="76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027-3F81-473F-B918-782DA45046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276720" cy="2670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086600" y="934920"/>
            <a:ext cx="1930320" cy="4475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657600" y="2390760"/>
            <a:ext cx="3218040" cy="2028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252560" y="12193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 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81720" y="3794040"/>
            <a:ext cx="232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RAL MAG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MUON 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419720" y="865080"/>
            <a:ext cx="1690560" cy="142092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06" name=""/>
          <p:cNvSpPr/>
          <p:nvPr/>
        </p:nvSpPr>
        <p:spPr>
          <a:xfrm rot="10800000">
            <a:off x="6705720" y="2666520"/>
            <a:ext cx="630000" cy="608040"/>
          </a:xfrm>
          <a:custGeom>
            <a:avLst/>
            <a:gdLst>
              <a:gd name="textAreaLeft" fmla="*/ 98280 w 630000"/>
              <a:gd name="textAreaRight" fmla="*/ 507600 w 630000"/>
              <a:gd name="textAreaTop" fmla="*/ 133560 h 608040"/>
              <a:gd name="textAreaBottom" fmla="*/ 474480 h 608040"/>
            </a:gdLst>
            <a:ahLst/>
            <a:rect l="textAreaLeft" t="textAreaTop" r="textAreaRight" b="textAreaBottom"/>
            <a:pathLst>
              <a:path w="21600" h="21600">
                <a:moveTo>
                  <a:pt x="3375" y="4754"/>
                </a:moveTo>
                <a:lnTo>
                  <a:pt x="14106" y="4754"/>
                </a:lnTo>
                <a:lnTo>
                  <a:pt x="14106" y="0"/>
                </a:lnTo>
                <a:lnTo>
                  <a:pt x="21600" y="10800"/>
                </a:lnTo>
                <a:lnTo>
                  <a:pt x="14106" y="21600"/>
                </a:lnTo>
                <a:lnTo>
                  <a:pt x="14106" y="16846"/>
                </a:lnTo>
                <a:lnTo>
                  <a:pt x="3375" y="16846"/>
                </a:lnTo>
                <a:close/>
              </a:path>
              <a:path w="21600" h="21600">
                <a:moveTo>
                  <a:pt x="0" y="4754"/>
                </a:moveTo>
                <a:lnTo>
                  <a:pt x="675" y="4754"/>
                </a:lnTo>
                <a:lnTo>
                  <a:pt x="675" y="16846"/>
                </a:lnTo>
                <a:lnTo>
                  <a:pt x="0" y="16846"/>
                </a:lnTo>
                <a:close/>
              </a:path>
              <a:path w="21600" h="21600">
                <a:moveTo>
                  <a:pt x="1350" y="4754"/>
                </a:moveTo>
                <a:lnTo>
                  <a:pt x="2700" y="4754"/>
                </a:lnTo>
                <a:lnTo>
                  <a:pt x="2700" y="16846"/>
                </a:lnTo>
                <a:lnTo>
                  <a:pt x="1350" y="16846"/>
                </a:lnTo>
                <a:close/>
              </a:path>
            </a:pathLst>
          </a:cu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543800" y="3047760"/>
            <a:ext cx="831960" cy="19652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877000" y="3048120"/>
            <a:ext cx="1743120" cy="17128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181120" y="2303640"/>
            <a:ext cx="39960" cy="11253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30800" y="2309760"/>
            <a:ext cx="331920" cy="11192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94440" y="1752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rcRect l="8000" t="18000" r="4000" b="8002"/>
          <a:stretch/>
        </p:blipFill>
        <p:spPr>
          <a:xfrm>
            <a:off x="6526080" y="4267080"/>
            <a:ext cx="1932120" cy="21672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6776640" y="5425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3809880" y="4648320"/>
            <a:ext cx="2551320" cy="17906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4986360" y="478476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C+P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762120"/>
            <a:ext cx="56386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69880" y="304920"/>
            <a:ext cx="79646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d Hadron PID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505320" y="1208160"/>
            <a:ext cx="5410080" cy="4125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960" y="350532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ors for hadron measu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H+PC1+TOF+B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8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5 &lt;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lt; 0.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d Hadron PID by T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&lt;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lt; 3.0 GeV/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4&lt; K &lt; 2.0 GeV/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6&lt; p &lt; 4.5 GeV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618-E6FA-4847-8821-C4D0549956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5038560" cy="3865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33920" y="1143000"/>
            <a:ext cx="5394240" cy="4138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Spectr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0769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opes increase with particle m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n and anti-proton yields equal the pion yield at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6ff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dependence is less pronou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849-FED9-429C-A483-150FCF13E9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353200" cy="3625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057400" y="1219320"/>
            <a:ext cx="5402160" cy="3876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1800" y="4114800"/>
            <a:ext cx="25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. error from extrapolation x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93500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. error from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4326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ean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vs. N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par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51051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from peripheral to mid-central, and then saturate from mid-central to central for all particle spe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clear mass depen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ive radial expansion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nsistent with hydro pic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10800" y="106668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HENIX:Phys.Rev.C69,034909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8720" y="1035000"/>
            <a:ext cx="2491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a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67E-0E60-45C4-9C48-55D4B6FD6D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last-wave model Parameteriza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8360" y="3200400"/>
            <a:ext cx="1807920" cy="1374120"/>
            <a:chOff x="6858360" y="3200400"/>
            <a:chExt cx="1807920" cy="1374120"/>
          </a:xfrm>
        </p:grpSpPr>
        <p:sp>
          <p:nvSpPr>
            <p:cNvPr id="134" name=""/>
            <p:cNvSpPr/>
            <p:nvPr/>
          </p:nvSpPr>
          <p:spPr>
            <a:xfrm>
              <a:off x="7467480" y="3581280"/>
              <a:ext cx="609480" cy="609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67480" y="3276720"/>
              <a:ext cx="0" cy="92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67480" y="41911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35812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26480" y="4114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360" y="320040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3320" y="4114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76960" y="3581280"/>
              <a:ext cx="0" cy="62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593080" y="2514600"/>
            <a:ext cx="61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f: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ollfrank,Schnedermann,Heinz,PRC48(1993)246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066680" y="1143000"/>
                <a:ext cx="6934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dN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dr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h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h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584240" y="2133720"/>
            <a:ext cx="335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,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odified Bessel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007160" y="3200400"/>
            <a:ext cx="1706400" cy="1270800"/>
            <a:chOff x="4007160" y="3200400"/>
            <a:chExt cx="1706400" cy="1270800"/>
          </a:xfrm>
        </p:grpSpPr>
        <p:sp>
          <p:nvSpPr>
            <p:cNvPr id="146" name=""/>
            <p:cNvSpPr/>
            <p:nvPr/>
          </p:nvSpPr>
          <p:spPr>
            <a:xfrm>
              <a:off x="4007160" y="320040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682880" y="3538440"/>
              <a:ext cx="881280" cy="5428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0600" y="4011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82880" y="3268800"/>
              <a:ext cx="0" cy="81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880" y="4081320"/>
              <a:ext cx="94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2089080"/>
                <a:ext cx="27432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81280" y="4572000"/>
            <a:ext cx="2659320" cy="1801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581640" y="4495680"/>
            <a:ext cx="576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040" y="28954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near flow rapidity pro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stant particle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53080" y="5029200"/>
                <a:ext cx="17528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β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dr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dr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170400" y="4648320"/>
            <a:ext cx="28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flow veloc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629400" y="6095880"/>
                <a:ext cx="15876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h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52280" y="3276720"/>
            <a:ext cx="3353040" cy="3429000"/>
          </a:xfrm>
          <a:prstGeom prst="rect">
            <a:avLst/>
          </a:prstGeom>
          <a:noFill/>
          <a:ln w="316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e-out tempera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52280" y="4967280"/>
            <a:ext cx="3114360" cy="1701360"/>
            <a:chOff x="152280" y="4967280"/>
            <a:chExt cx="3114360" cy="1701360"/>
          </a:xfrm>
        </p:grpSpPr>
        <p:sp>
          <p:nvSpPr>
            <p:cNvPr id="160" name=""/>
            <p:cNvSpPr/>
            <p:nvPr/>
          </p:nvSpPr>
          <p:spPr>
            <a:xfrm>
              <a:off x="607680" y="4967280"/>
              <a:ext cx="0" cy="152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7680" y="6491520"/>
              <a:ext cx="2210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0840" y="4994280"/>
              <a:ext cx="1359000" cy="118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74520" y="4967280"/>
              <a:ext cx="412920" cy="762120"/>
            </a:xfrm>
            <a:prstGeom prst="upDownArrow">
              <a:avLst>
                <a:gd name="adj1" fmla="val 50000"/>
                <a:gd name="adj2" fmla="val 36743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7080" y="6262920"/>
              <a:ext cx="43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-284400" y="5428440"/>
              <a:ext cx="12628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m</a:t>
              </a:r>
              <a:r>
                <a:rPr b="0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N/dm</a:t>
              </a:r>
              <a:r>
                <a:rPr b="0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700000">
              <a:off x="1721880" y="5533920"/>
              <a:ext cx="443160" cy="1030320"/>
            </a:xfrm>
            <a:prstGeom prst="upDownArrow">
              <a:avLst>
                <a:gd name="adj1" fmla="val 50000"/>
                <a:gd name="adj2" fmla="val 46283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9240" y="5133960"/>
              <a:ext cx="1033560" cy="443160"/>
            </a:xfrm>
            <a:prstGeom prst="leftRightArrow">
              <a:avLst>
                <a:gd name="adj1" fmla="val 50000"/>
                <a:gd name="adj2" fmla="val 4642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1920" y="58816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5680" y="576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22520" y="5119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1BF-DE4C-477F-8581-FEB3A1A840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609480" y="2514600"/>
            <a:ext cx="7226280" cy="4008600"/>
            <a:chOff x="609480" y="2514600"/>
            <a:chExt cx="7226280" cy="400860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609480" y="2514600"/>
              <a:ext cx="7226280" cy="40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038480" y="4235400"/>
              <a:ext cx="16765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atio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177MeV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29M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746440" y="2373480"/>
            <a:ext cx="6168960" cy="4179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280" y="3754440"/>
            <a:ext cx="2590920" cy="2311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na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anti-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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ti-K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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ant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990720"/>
            <a:ext cx="8915400" cy="556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sonanc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ribution determined by each combinations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 them and obt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tra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K,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abundance calculated with chemical parame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177MeV,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29MeV (200GeV), 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176MeV,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41MeV(130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f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.Braun-Munzinger et al,PLB518(2001)4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 and create inclusi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tra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4496040" cy="2493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4419360" cy="29937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odel fit with resonance feed dow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F18-5244-4683-B1FA-EFC3C4B670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560" y="3733920"/>
            <a:ext cx="485136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4851360" cy="3124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419720" y="9903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contribution from har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m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 &lt;1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1.2GeV/c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: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1.4GeV/c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: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1.7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de large resonance for pion at very low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p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0.5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taneous fit to spectra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K,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60~240MeV 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V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0.00~0.90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fine mesh in small reg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90~130MeV 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V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0.70~0.8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itting the 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spectr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30800" y="1468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-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5520" y="4363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-9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972-3DA1-4DA7-A7E5-3ABAAB2E4B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3672000" cy="5715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contours in parameter space T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fo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724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figure show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st result of simultaneous fitting for most-central spec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figure show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ours for each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trong anti-correlation betwee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ENIX Au+Au most centr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GeV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108MeV, &lt;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 = 0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GeV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134MeV, &lt;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 = 0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89800" y="60339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-5%:most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483-72FF-4312-9748-0E397D92E0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Fall Meeting, Sep.2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07:40:30Z</dcterms:created>
  <dc:creator>Akio Kiyomichi</dc:creator>
  <dc:description/>
  <dc:language>en-US</dc:language>
  <cp:lastModifiedBy>Akio Kiyomichi</cp:lastModifiedBy>
  <cp:lastPrinted>2004-09-29T07:11:14Z</cp:lastPrinted>
  <dcterms:modified xsi:type="dcterms:W3CDTF">2004-09-29T07:12:06Z</dcterms:modified>
  <cp:revision>423</cp:revision>
  <dc:subject>Hadron PWG</dc:subject>
  <dc:title>PID Simulation</dc:title>
</cp:coreProperties>
</file>