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3.png" ContentType="image/png"/>
  <Override PartName="/ppt/media/image33.wmf" ContentType="image/x-wmf"/>
  <Override PartName="/ppt/media/image28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5.png" ContentType="image/png"/>
  <Override PartName="/ppt/media/image35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6858000" cy="9144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0913-0228-4DA8-89FF-6ED2EBC7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5337360"/>
            <a:ext cx="582912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36AD-A50E-4D6C-9556-43401A11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533736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1360" y="533736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A288-FE5D-4A41-A60C-51A89786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187668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85440" y="2286000"/>
            <a:ext cx="187668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56080" y="2286000"/>
            <a:ext cx="187668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5337360"/>
            <a:ext cx="187668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85440" y="5337360"/>
            <a:ext cx="187668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56080" y="5337360"/>
            <a:ext cx="187668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276-2834-48AB-80BB-B3CEBF3C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0FDD-A4DE-47D5-A634-CD1F4502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4440" y="2286000"/>
            <a:ext cx="582912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50C7-FEEF-4D7B-BE64-42A1BC05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E2DD-C399-4332-A388-4FB6504E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2A66-24DA-45DE-BC49-E5B03EA1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3D3D-FC62-4E93-92F4-D2C42E13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783C-E73F-45E8-9C78-68C64F84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440" y="533736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D992-B702-435C-BEB1-787F6A07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2286000"/>
            <a:ext cx="582912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D9B-1F7C-4342-9AA8-47E24E52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1360" y="533736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6A7C-9171-401D-8E97-3514F7F5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440" y="5337360"/>
            <a:ext cx="582912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2B21-8888-40C2-8B34-B386BA79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40" y="5337360"/>
            <a:ext cx="582912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826E-3388-4C57-BAC6-2CC29BD3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4440" y="533736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1360" y="533736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94C7-7074-4881-83AF-562809C2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187668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85440" y="2286000"/>
            <a:ext cx="187668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56080" y="2286000"/>
            <a:ext cx="187668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4440" y="5337360"/>
            <a:ext cx="187668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85440" y="5337360"/>
            <a:ext cx="187668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56080" y="5337360"/>
            <a:ext cx="187668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3E70-C30E-4FA3-94C2-B427A2B3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A63-4BD3-4F96-8CEF-7B8C4BD5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A18-4725-4038-A787-7087CD39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CC4-089A-4F2F-948D-2A4E8194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32D8-6862-4C36-BAEE-BD2B77BD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533736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2F0-29A1-4CD7-8302-32AD1D38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1360" y="533736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E11C-342F-49D6-9FA3-9AAB17EB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5337360"/>
            <a:ext cx="582912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451-1198-4949-991F-4A71A57E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286000"/>
            <a:ext cx="582912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00400" y="-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ja-JP" sz="12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200" spc="-1" strike="noStrike">
                <a:solidFill>
                  <a:srgbClr val="00cc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8915040"/>
            <a:ext cx="2819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971800" y="891504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A249-9E4C-45C4-89E1-3C302FB2AEF5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8305560"/>
            <a:ext cx="1447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362320" y="830556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495288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682E-E41A-4431-8921-DA2FEC7ED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33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6553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Study of Identified Charged Hadron Spectra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in Au+Au Collisions at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NN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=200 GeV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measured by RHIC-PHENIX Experime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3040" y="3733920"/>
            <a:ext cx="331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kio Kiyomich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IK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PHENIX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7620120"/>
            <a:ext cx="40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PS meeting at Rikkyo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ptember 13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66320" y="5028840"/>
            <a:ext cx="4800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6064200" cy="3630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6064200" cy="36306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article Ratio (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 baseline="30000">
                <a:solidFill>
                  <a:srgbClr val="3333cc"/>
                </a:solidFill>
                <a:latin typeface="Courier New"/>
              </a:rPr>
              <a:t>-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 baseline="30000">
                <a:solidFill>
                  <a:srgbClr val="3333cc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200" spc="-1" strike="noStrike" baseline="30000">
                <a:solidFill>
                  <a:srgbClr val="3333cc"/>
                </a:solidFill>
                <a:latin typeface="Courier New"/>
              </a:rPr>
              <a:t>-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/K</a:t>
            </a:r>
            <a:r>
              <a:rPr b="1" lang="en-US" sz="3200" spc="-1" strike="noStrike" baseline="30000">
                <a:solidFill>
                  <a:srgbClr val="3333cc"/>
                </a:solidFill>
                <a:latin typeface="Courier New"/>
              </a:rPr>
              <a:t>+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8153280"/>
            <a:ext cx="5829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lear centrality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8F2D-43DE-46EA-8B11-0FDACDBA0E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6254640" cy="3728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09120" y="48765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lea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ence for cent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ing for peripheral 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3GeV/c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article Ratio (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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p/p</a:t>
            </a:r>
            <a:r>
              <a:rPr b="0" lang="en-US" sz="32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6324480"/>
            <a:ext cx="5257800" cy="1371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ratio for 0-5% central coll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0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02 (stat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1 (s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9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03 (stat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1(s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/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7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04 (stat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1(s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D336-911E-4839-B2D3-C8A8294355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490920" y="1371600"/>
            <a:ext cx="3138480" cy="35053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eam energy dependen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2840" y="5562720"/>
            <a:ext cx="65725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trong energy dependence 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/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tios increase from SPS and 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with Thermal mode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ryon chemical potential: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~ 30M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baryon free at mid rapid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1609560"/>
            <a:ext cx="3581280" cy="3114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rot="16200000">
            <a:off x="4684320" y="2905560"/>
            <a:ext cx="398196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.Becattini et al. Phys.Rev.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60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024901(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7360" y="1447920"/>
            <a:ext cx="185724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34360" y="1828800"/>
            <a:ext cx="157968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Arial"/>
              </a:rPr>
              <a:t>PHENIX 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48280" y="2495520"/>
            <a:ext cx="1332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18120" y="23814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558880"/>
            <a:ext cx="7876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0C5C-D597-44A3-806D-074AE9972A1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5457600" cy="3237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5457600" cy="32371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p/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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p/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ratio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45120" y="6224760"/>
            <a:ext cx="725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/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73120" y="2809800"/>
            <a:ext cx="668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/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440" y="6933960"/>
            <a:ext cx="61149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tios as a func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p to  2GeV/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,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p to 4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1G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n yield is comparable with pion at 2GeV/c in central collision, less in periph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0AC-C2D9-4607-9CDB-D04140AED9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9200" y="1143000"/>
            <a:ext cx="6626520" cy="44942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mparison with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Arial"/>
              </a:rPr>
              <a:t>N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130GeV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4440" y="6095520"/>
            <a:ext cx="58291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mpared to Year-1 PHENIX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behavior has been obse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 within systematic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D16-1125-4EEF-8013-2DABA094A7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6477120" cy="80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dynamic Collective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 a strong collective expansion at central coll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reases with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30168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onsistence with radial expansion pi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-dynamical model fit to the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30168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fo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= 110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23 MeV, 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= 0.7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ratios in Au+Au collisions at 20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lear centrality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pen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ratio at 5% most central eve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301680">
              <a:lnSpc>
                <a:spcPct val="70000"/>
              </a:lnSpc>
              <a:spcBef>
                <a:spcPts val="400"/>
              </a:spcBef>
              <a:buClr>
                <a:srgbClr val="3333c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 baseline="30000">
                <a:solidFill>
                  <a:srgbClr val="3333cc"/>
                </a:solidFill>
                <a:latin typeface="Courier New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/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 baseline="30000">
                <a:solidFill>
                  <a:srgbClr val="3333cc"/>
                </a:solidFill>
                <a:latin typeface="Courier New"/>
              </a:rPr>
              <a:t>+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= 1.02 </a:t>
            </a:r>
            <a:r>
              <a:rPr b="0" lang="ja-JP" sz="16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ja-JP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0.02(stat.) </a:t>
            </a:r>
            <a:r>
              <a:rPr b="0" lang="ja-JP" sz="16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ja-JP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0.1(sys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301680">
              <a:lnSpc>
                <a:spcPct val="70000"/>
              </a:lnSpc>
              <a:spcBef>
                <a:spcPts val="400"/>
              </a:spcBef>
              <a:buClr>
                <a:srgbClr val="3333c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1600" spc="-1" strike="noStrike" baseline="30000">
                <a:solidFill>
                  <a:srgbClr val="3333cc"/>
                </a:solidFill>
                <a:latin typeface="Courier New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/K</a:t>
            </a:r>
            <a:r>
              <a:rPr b="1" lang="en-US" sz="1600" spc="-1" strike="noStrike" baseline="30000">
                <a:solidFill>
                  <a:srgbClr val="3333cc"/>
                </a:solidFill>
                <a:latin typeface="Courier New"/>
              </a:rPr>
              <a:t>+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= 0.92 </a:t>
            </a:r>
            <a:r>
              <a:rPr b="0" lang="ja-JP" sz="16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ja-JP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0.03(stat.) </a:t>
            </a:r>
            <a:r>
              <a:rPr b="0" lang="ja-JP" sz="16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ja-JP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0.1(sys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301680">
              <a:lnSpc>
                <a:spcPct val="70000"/>
              </a:lnSpc>
              <a:spcBef>
                <a:spcPts val="400"/>
              </a:spcBef>
              <a:buClr>
                <a:srgbClr val="3333c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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p/p  = 0.70 </a:t>
            </a:r>
            <a:r>
              <a:rPr b="0" lang="ja-JP" sz="16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ja-JP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0.04(stat.) </a:t>
            </a:r>
            <a:r>
              <a:rPr b="0" lang="ja-JP" sz="16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ja-JP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0.1(sys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yon chemical potential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~ 30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hadron yield at hi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/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io is almost flat up to 4GeV/c for central collision, decreasing for peripheral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3GeV/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n yield is comparable with pion at 2GeV/c for central coll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s on the effect of dense ma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systematic uncertai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with p+p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441-AB21-473B-B849-4EB50CE4BCE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ackup Slid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440" y="6019920"/>
            <a:ext cx="582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6200" y="2643120"/>
            <a:ext cx="56869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930-A56D-465E-B56B-4052C784057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vent Selec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04960" y="5334120"/>
            <a:ext cx="3352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ity selection 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charge sum of BBC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=3~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energy of ZDC in minimum bias e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ed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Glauber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38080" y="1143000"/>
            <a:ext cx="4800240" cy="3809520"/>
            <a:chOff x="838080" y="1143000"/>
            <a:chExt cx="4800240" cy="380952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rcRect l="1262" t="7383" r="5130" b="0"/>
            <a:stretch/>
          </p:blipFill>
          <p:spPr>
            <a:xfrm>
              <a:off x="838080" y="1143000"/>
              <a:ext cx="4800240" cy="38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214520" y="384300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Times New Roman"/>
                </a:rPr>
                <a:t>0-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36400" y="2763000"/>
              <a:ext cx="77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Times New Roman"/>
                </a:rPr>
                <a:t>15-2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3880" y="3033000"/>
              <a:ext cx="79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1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47680" y="438300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Times New Roman"/>
                </a:rPr>
                <a:t>0-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58480" y="3392640"/>
              <a:ext cx="68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Times New Roman"/>
                </a:rPr>
                <a:t>5-1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35812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273-083F-469F-9609-2158D30125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measureme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5333760"/>
            <a:ext cx="60195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Electro-magnetic Calori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GeV/c&lt;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10GeV/c fo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ariant mass spectra and subtract combinatorial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 is evaluated by embedding simulate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real e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c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: 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all: 20-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395520" y="1219320"/>
            <a:ext cx="3462480" cy="3809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3746520" cy="328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D82A-3431-47C6-A7DB-C90627F08E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entrality Dependence of Particle Yiel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4440" y="6095520"/>
            <a:ext cx="611496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ield per pai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with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dependence on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behavior 130GeV and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6553440" cy="4419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427480" y="21160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59520" y="297036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3884760"/>
            <a:ext cx="2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8560" y="474984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Po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5560" y="47498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Neg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1480" y="1676520"/>
            <a:ext cx="169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ahoma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1880" y="1676520"/>
            <a:ext cx="169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ahoma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3280" y="4572000"/>
            <a:ext cx="134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symbol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0 GeV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7680" y="1981080"/>
            <a:ext cx="1776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+Au at sqrt(s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=200Ge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21760" y="1905120"/>
            <a:ext cx="1776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+Au at sqrt(s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=200Ge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36960" y="21337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03200" y="3048120"/>
            <a:ext cx="3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419112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b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463-8B26-41B8-85EF-0488E62656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14029" r="9957" b="21222"/>
          <a:stretch/>
        </p:blipFill>
        <p:spPr>
          <a:xfrm>
            <a:off x="3279600" y="5813280"/>
            <a:ext cx="3578400" cy="3330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3244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6248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 we learn from hadron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Soft process (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Characterize freeze-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3333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drodynamic Collective Expa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mal freeze-ou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l flow velo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3333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article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mical freeze-out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mical pot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IC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~ 174MeV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~ 46MeV 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130 GeV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S 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~ 170MeV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~ 270M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GS 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~ 130MeV,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~ 500M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Hard process (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Contain earliest stage of coll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uppression of hadron yield at high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on energy loss in hot and dense matt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ryon number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29120" y="5486400"/>
            <a:ext cx="1776600" cy="45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ENIX pu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RL88, 022301(2002)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5692680"/>
            <a:ext cx="3325680" cy="345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045-2089-44F9-9F94-F7B5B7EEA0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5423040"/>
            <a:ext cx="3325680" cy="34509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3800" y="995040"/>
            <a:ext cx="62816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we learn from particle rat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freeze-out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potent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SPS :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~ 170MeV,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~ 270M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AGS :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~ 130MeV, 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~ 500M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 of baryon stopping pow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 earliest stage of coll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on energy loss in hot and dense mat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pbar/p ratio decreases with p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Jet quenching moves the pbar/p ratio even below the pp val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490920" y="5495760"/>
            <a:ext cx="3173400" cy="3162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rot="16200000">
            <a:off x="5417640" y="6760440"/>
            <a:ext cx="25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.N.Wang, PRC58(1998)23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08800" y="8599320"/>
            <a:ext cx="1028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[GeV/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92720" y="5267160"/>
            <a:ext cx="18662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QCD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364-76CD-41F2-980A-EC780D78A98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6160" y="495000"/>
            <a:ext cx="63691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ti-particle/particle ratios 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120" y="6708240"/>
            <a:ext cx="66294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lear dependence as a function of centrality an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urier New"/>
              </a:rPr>
              <a:t>+</a:t>
            </a:r>
            <a:r>
              <a:rPr b="1" lang="en-US" sz="600" spc="-1" strike="noStrike" baseline="30000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@5%central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0.98 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02(stat.) 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08(sys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K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@5%central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0.87 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06(stat.) 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11(sys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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/p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@5%central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0.70 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04(stat.) 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07(sys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317600"/>
            <a:ext cx="6858000" cy="2468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3994200"/>
            <a:ext cx="6858000" cy="2468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91400" y="3843360"/>
            <a:ext cx="1704600" cy="405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2520" y="1190520"/>
            <a:ext cx="2460600" cy="3682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ity 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911840" y="546120"/>
                <a:ext cx="1915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rPr>
                        <m:lit/>
                        <m:nor/>
                      </m:rPr>
                      <m:t xml:space="preserve">Ge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3400560" y="4017960"/>
            <a:ext cx="208584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89400" y="1336680"/>
            <a:ext cx="208584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EF7-7DF1-4E8E-B12E-0D5F75EF776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852480" y="1085760"/>
            <a:ext cx="4667400" cy="3915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95120" y="4898520"/>
            <a:ext cx="642312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trong energy dependence 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/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tios increase from SPS and 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yon density at RHIC is much less than AGS and SPS, but not baryon free at mid rapid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mal Model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Braun-Munzinger et al. Phys.Lett.B.518 41(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~ 174MeV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~ 46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 from RHIC four experi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w about Au+Au 200GeV </a:t>
            </a: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analysis is on g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ose to baryon free? Tempera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35440" y="1306440"/>
            <a:ext cx="0" cy="106380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40200" y="2019240"/>
            <a:ext cx="83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51320" y="2316240"/>
            <a:ext cx="83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54800" y="982800"/>
            <a:ext cx="23266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eam energy dependen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205-D5AE-483D-90E7-F0A8825492F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tivation (Hard process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6553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s will loose its energy in the dense ma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,d) quark jets likely produce a leading prot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antipro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Arial"/>
              </a:rPr>
              <a:t>Ratio decreases with p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on jets produce the same number of prot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tiproton with softer distrib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hig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most of antiproton from gluons, while proton from both valence quark and gluon fragm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Arial"/>
              </a:rPr>
              <a:t>If gluon jets lose more energy, then ratio </a:t>
            </a:r>
            <a:br>
              <a:rPr sz="1600"/>
            </a:br>
            <a:r>
              <a:rPr b="0" lang="en-US" sz="1600" spc="-1" strike="noStrike">
                <a:solidFill>
                  <a:srgbClr val="00cc99"/>
                </a:solidFill>
                <a:latin typeface="Arial"/>
              </a:rPr>
              <a:t>behavior mod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yon number will be transported via gluon j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yon/meson ratio will give an information 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yon number trans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ong suppression?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, p enha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95480" y="6059520"/>
            <a:ext cx="3733920" cy="2779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6019920"/>
            <a:ext cx="2727360" cy="2717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670840" y="5867280"/>
            <a:ext cx="458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Vitev and M. Gyulassy, PRC65(2002)0419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10640" y="8634240"/>
            <a:ext cx="1140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[GeV/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1587400">
            <a:off x="302760" y="5866920"/>
            <a:ext cx="22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.N.Wang, PRC58(1998)23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56080" y="678168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B3A-C3FA-4FD5-A840-E82CC5062D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8000" t="18000" r="4000" b="8002"/>
          <a:stretch/>
        </p:blipFill>
        <p:spPr>
          <a:xfrm>
            <a:off x="4495680" y="4648320"/>
            <a:ext cx="2309760" cy="2590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4494240" cy="3663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7680" y="477720"/>
            <a:ext cx="63244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HENIX Detecto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4723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 + Au at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N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200 G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+ p at 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N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200 G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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= 45 deg,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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= 0.7 (</a:t>
            </a:r>
            <a:r>
              <a:rPr b="0" lang="ja-JP" sz="18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.3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ors used in thi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rift Chamber (D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ad Chamber 1 (PC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eam-Beam Counter (BB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ime-of-Flight (TOF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0 counter (TZR) for pp ru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371760" y="4464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878720" y="6248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500720" y="2629080"/>
            <a:ext cx="2303280" cy="1933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516560" y="990720"/>
            <a:ext cx="2295360" cy="1611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06120" y="41004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9440" y="104616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C+P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489560" y="7272360"/>
            <a:ext cx="2292120" cy="1719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183640" y="85345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Z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10C-0F44-4E75-AC57-01FB7E374E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5398920" cy="5178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920" y="555480"/>
            <a:ext cx="6324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article Identification by TOF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7240" y="6411960"/>
            <a:ext cx="31719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e can see clear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,K,p sepa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article s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/K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2.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roto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4.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bserved d,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8240" y="5943600"/>
            <a:ext cx="1858680" cy="264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4301" t="7990" r="8885" b="0"/>
          <a:stretch/>
        </p:blipFill>
        <p:spPr>
          <a:xfrm>
            <a:off x="0" y="6141960"/>
            <a:ext cx="3657600" cy="30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BAB-3D5F-421F-AE43-1081202245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8240" y="4522680"/>
            <a:ext cx="6567480" cy="36306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ngle Particle Spectra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0" t="6297" r="0" b="0"/>
          <a:stretch/>
        </p:blipFill>
        <p:spPr>
          <a:xfrm>
            <a:off x="138240" y="1066680"/>
            <a:ext cx="6567480" cy="3630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264640" y="2362320"/>
            <a:ext cx="1302480" cy="459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7560" y="5867280"/>
            <a:ext cx="1773360" cy="459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iph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74240" y="12492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9160" y="49068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2800" y="49068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2800" y="12492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8229600"/>
            <a:ext cx="5829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n yield ~ pion yield at 2GeV for cent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828E-C232-40F3-BD3C-385EC7C0EB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027600" cy="2746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76720" y="685800"/>
            <a:ext cx="3027240" cy="2746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3027600" cy="2746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276720" y="3429000"/>
            <a:ext cx="3027240" cy="2746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rcRect l="0" t="2791" r="0" b="0"/>
          <a:stretch/>
        </p:blipFill>
        <p:spPr>
          <a:xfrm>
            <a:off x="380880" y="6172200"/>
            <a:ext cx="3027600" cy="2744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rcRect l="0" t="2830" r="0" b="0"/>
          <a:stretch/>
        </p:blipFill>
        <p:spPr>
          <a:xfrm>
            <a:off x="3276720" y="6172200"/>
            <a:ext cx="302724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pectra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46560" y="2971800"/>
            <a:ext cx="813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–   5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– 10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– 15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 – 20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– 30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 – 40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 – 50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 – 60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 – 70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 – 80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 – 93 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30880" y="2819520"/>
            <a:ext cx="32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haracterized by power law 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7880" y="5562720"/>
            <a:ext cx="371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haracterized by m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exponential 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8762760"/>
            <a:ext cx="58291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50440" y="8305920"/>
            <a:ext cx="41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haracterized by Boltzmann function 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200" y="9907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2680" y="9907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200" y="64008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2680" y="64008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200" y="37339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2680" y="37339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DC1-700D-47DB-8B48-78B6AFE9AB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entrality dependence of </a:t>
            </a:r>
            <a:r>
              <a:rPr b="0" i="1" lang="en-US" sz="3200" spc="-1" strike="noStrike">
                <a:solidFill>
                  <a:srgbClr val="3333cc"/>
                </a:solidFill>
                <a:latin typeface="Arial"/>
              </a:rPr>
              <a:t>&lt;p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r>
              <a:rPr b="0" i="1" lang="en-US" sz="3200" spc="-1" strike="noStrike">
                <a:solidFill>
                  <a:srgbClr val="3333cc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6251" r="0" b="0"/>
          <a:stretch/>
        </p:blipFill>
        <p:spPr>
          <a:xfrm>
            <a:off x="169920" y="1509840"/>
            <a:ext cx="6443640" cy="4052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674720" y="4495680"/>
            <a:ext cx="134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symbol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0 GeV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191120"/>
            <a:ext cx="137160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atic erro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0 %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(15 %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(14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32280" y="3809880"/>
            <a:ext cx="79200" cy="324000"/>
          </a:xfrm>
          <a:prstGeom prst="rect">
            <a:avLst/>
          </a:prstGeom>
          <a:solidFill>
            <a:srgbClr val="ffff00">
              <a:alpha val="6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3733920"/>
            <a:ext cx="79200" cy="323640"/>
          </a:xfrm>
          <a:prstGeom prst="rect">
            <a:avLst/>
          </a:prstGeom>
          <a:solidFill>
            <a:srgbClr val="ffff00">
              <a:alpha val="6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324480" y="388584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4440" y="5866920"/>
            <a:ext cx="5829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with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Consistence with radial expansion pi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 increase from peripheral to central greater for proton than for pion, ka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ED58-E786-4E7D-A9D6-8135B83064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685800" y="1143000"/>
            <a:ext cx="5327640" cy="4584600"/>
            <a:chOff x="685800" y="1143000"/>
            <a:chExt cx="5327640" cy="458460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685800" y="1143000"/>
              <a:ext cx="5327640" cy="45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286080" y="1850760"/>
              <a:ext cx="2190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+Au at sqrt(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NN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) =200Ge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04720" y="4803480"/>
              <a:ext cx="2159280" cy="14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76360" y="3074760"/>
              <a:ext cx="2158920" cy="19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7920" y="1612800"/>
              <a:ext cx="2158920" cy="19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71760" y="4383000"/>
              <a:ext cx="2158920" cy="19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ydrodynamic Model Fi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5791320"/>
            <a:ext cx="60958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taneous fit in range (mT - m0)&lt;1G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from peripheral to mid-centr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150) and  tends to saturate for central colli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7543800"/>
            <a:ext cx="5410080" cy="1092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entral coll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eze-out Temperat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1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3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verse flow velocit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0.7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72C4-B84D-40D1-896E-762882E2F4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kkyo Univ.   Sep. 13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07:40:30Z</dcterms:created>
  <dc:creator>Akio Kiyomichi</dc:creator>
  <dc:description/>
  <dc:language>en-US</dc:language>
  <cp:lastModifiedBy>kiyo</cp:lastModifiedBy>
  <cp:lastPrinted>2002-09-12T21:35:29Z</cp:lastPrinted>
  <dcterms:modified xsi:type="dcterms:W3CDTF">2002-09-13T01:59:31Z</dcterms:modified>
  <cp:revision>232</cp:revision>
  <dc:subject>Hadron PWG</dc:subject>
  <dc:title>PID Simulation</dc:title>
</cp:coreProperties>
</file>