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9853613" cy="6727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40F-A0E6-4A1D-9040-7323765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669312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C00-A95E-41C0-B452-B090615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AA1-8727-4E3B-9BAF-15A0C5A5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216-4E25-4C04-BD36-9F30068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ABFD-8275-44E0-919B-4CE205F8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F00A-C102-4A7C-9ABD-2AD1377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C910-103C-4A20-AFB5-7CE289FF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D64-9149-4707-9A93-2C1EFB3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2CA-BD36-45CD-82C1-ED5C8775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7680" y="495000"/>
            <a:ext cx="632448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82B-D241-4FEB-85B6-1EDC61A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2428-FD4A-4290-BD60-DD011C3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686-C391-47A7-9386-437B170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136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A7F-5DE4-4277-984C-BB33C90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944-6367-4AA1-8786-F5A5011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40" y="669312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65CD-1BB8-413A-922B-970DC9B9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136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80E-83C0-40E0-B8CF-627584DC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8544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56080" y="512424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44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8544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56080" y="6693120"/>
            <a:ext cx="187668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1733-ECDB-4B08-9C6C-4CA5E708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8D3-EA9B-447C-A6D3-3DF0411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DE2-6FF6-47DE-BF97-38E67F7B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3C2-DDBF-4A33-9F06-B8311DDE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495000"/>
            <a:ext cx="632448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A39-24B0-4FC8-88ED-0AD434E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578-5568-426C-8FCC-D7B16F5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669312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AB8-7235-48B0-AF56-A44F4DB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46152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5124240"/>
            <a:ext cx="284436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6693120"/>
            <a:ext cx="58291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A2A-C71F-4EF1-8152-67E7F1D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henix_logo2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644560" y="-360"/>
            <a:ext cx="42130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8851680"/>
            <a:ext cx="2819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ja-JP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2971800" y="885168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A97D-9836-40A7-A3E2-28A84E3A91E0}" type="slidenum">
              <a:rPr b="0" lang="ja-JP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henix_logo2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0CA-ED18-4948-A8E3-7234CA7526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609480"/>
            <a:ext cx="649152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adron Production Ratio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 Au+Au Collision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t RHIC-PHENIX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240" y="5501880"/>
            <a:ext cx="54910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Motivat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Result of particle ratio in Au+Au at</a:t>
            </a:r>
            <a:br>
              <a:rPr sz="2000"/>
            </a:b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[Run-1]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Status of hadron analysis in Au+Au at</a:t>
            </a:r>
            <a:br>
              <a:rPr sz="2000"/>
            </a:b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[Run-2]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ＭＳ Ｐゴシック"/>
              </a:rPr>
              <a:t>Conclusion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360" y="331632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.of Tsuku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io Kiyomich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PHENIX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19724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PS meeting at Ritsumeika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rch 25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72000" y="6319800"/>
                <a:ext cx="1514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50000" y="6959520"/>
                <a:ext cx="1519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adron at high-p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reg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2280" y="8312040"/>
            <a:ext cx="582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ENIX has ~300 more statistics in Ru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aa" descr=""/>
          <p:cNvPicPr/>
          <p:nvPr/>
        </p:nvPicPr>
        <p:blipFill>
          <a:blip r:embed="rId1"/>
          <a:srcRect l="0" t="14029" r="9957" b="21222"/>
          <a:stretch/>
        </p:blipFill>
        <p:spPr>
          <a:xfrm>
            <a:off x="209520" y="1273320"/>
            <a:ext cx="3578400" cy="33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210960" y="1041480"/>
          <a:ext cx="1317960" cy="36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960" y="1041480"/>
                    <a:ext cx="13179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313080" y="1644480"/>
            <a:ext cx="23097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ENIX pu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RL88, 022301(2002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8680" y="5210280"/>
            <a:ext cx="4213080" cy="3051000"/>
            <a:chOff x="328680" y="5210280"/>
            <a:chExt cx="4213080" cy="3051000"/>
          </a:xfrm>
        </p:grpSpPr>
        <p:pic>
          <p:nvPicPr>
            <p:cNvPr id="155" name="RatioPbarP2" descr=""/>
            <p:cNvPicPr/>
            <p:nvPr/>
          </p:nvPicPr>
          <p:blipFill>
            <a:blip r:embed="rId4"/>
            <a:stretch/>
          </p:blipFill>
          <p:spPr>
            <a:xfrm>
              <a:off x="328680" y="5210280"/>
              <a:ext cx="355284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8200" y="7888320"/>
              <a:ext cx="33130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8080" y="781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9440" y="7794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68960" y="780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7320" y="779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70360" y="780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600" y="7821720"/>
              <a:ext cx="102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[GeV/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85800" y="5230800"/>
            <a:ext cx="20858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43360" y="1042920"/>
                <a:ext cx="18590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406600" y="8123400"/>
            <a:ext cx="1114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5760" y="4610160"/>
            <a:ext cx="297504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enough statistics of identified hadron in Ru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34880" y="10684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sult from Au+Au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5440" y="6040440"/>
            <a:ext cx="1722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-5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157800"/>
            <a:ext cx="1206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3073320"/>
            <a:ext cx="314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000" spc="-1" strike="noStrike" baseline="26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4640" y="4343400"/>
            <a:ext cx="8827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86280" y="4903560"/>
            <a:ext cx="604800" cy="3205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71920" y="4346640"/>
            <a:ext cx="1017360" cy="57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71160" y="663264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or Fall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37E-9120-4A8F-9C91-05ED591FFD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9920" y="1323720"/>
            <a:ext cx="6495840" cy="63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le ratios in Au+Au collisions at 130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centrality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ratio at 5% most central ev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= 0.98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02(stat.)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08(sy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= 0.87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06(stat.)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11(sy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/p  = 0.70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04(stat.) </a:t>
            </a:r>
            <a:r>
              <a:rPr b="0" lang="ja-JP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0.07(sy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yon density at RHIC is much less than AGS and SPS, but not baryon free at mid rapid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mal Model :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~ 174MeV,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~ 46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ook for Au+Au collisions at 200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 measurement of hadron yield and spec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ron suppression at high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ar/p ratio up to 4.0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with p+p collisions at 200G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005-3FAD-4062-A84F-799C000FA4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5124240"/>
            <a:ext cx="582912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5120" y="2643120"/>
            <a:ext cx="5686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942-442C-476B-AFFD-B3AF970B75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 (Hard proces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5094360"/>
            <a:ext cx="608472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,d) quark jets likely produce a leading proton than antipro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Ratio decreases with 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on jets produce the same number of proton and antiproton with softer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high pt, most of antiproton from gluons, while proton from both valence quark and gluon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If gluon jets lose more energy, then ratio </a:t>
            </a:r>
            <a:br>
              <a:rPr sz="1800"/>
            </a:b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behavior mod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16040" y="1138320"/>
            <a:ext cx="3730680" cy="371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16200000">
            <a:off x="122040" y="2806200"/>
            <a:ext cx="29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.N.Wang, PRC58(1998)2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6720" y="4508640"/>
            <a:ext cx="12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GeV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F67-4963-4CEF-86EE-A111031572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pare h</a:t>
            </a:r>
            <a:r>
              <a:rPr b="0" lang="en-US" sz="3600" spc="-1" strike="noStrike" baseline="26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26000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6082920"/>
            <a:ext cx="58291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collis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p-p scaled by &lt;N bin coll&gt; = 2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hape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scaled p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 bin coll&gt; = 90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tspec2" descr=""/>
          <p:cNvPicPr/>
          <p:nvPr/>
        </p:nvPicPr>
        <p:blipFill>
          <a:blip r:embed="rId1"/>
          <a:stretch/>
        </p:blipFill>
        <p:spPr>
          <a:xfrm>
            <a:off x="689040" y="1878120"/>
            <a:ext cx="4797360" cy="4006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70000" y="1300320"/>
            <a:ext cx="23097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ENIX pu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RL88, 022301(2002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17B-1405-4FD6-9C31-7D51C4F40E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Jet Quenching via p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6382800"/>
            <a:ext cx="5829120" cy="17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ight way to see th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he pt range hel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difficult when the other effect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98560" y="1766880"/>
            <a:ext cx="461340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B64-CE86-4858-AD92-98E7BCB7A4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 (Soft proces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3" name="phase_new" descr=""/>
          <p:cNvPicPr/>
          <p:nvPr/>
        </p:nvPicPr>
        <p:blipFill>
          <a:blip r:embed="rId1"/>
          <a:stretch/>
        </p:blipFill>
        <p:spPr>
          <a:xfrm>
            <a:off x="0" y="1106640"/>
            <a:ext cx="3325680" cy="3450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4040" y="4682880"/>
            <a:ext cx="62820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from SPS and A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greement with predictions of a thermal model assuming chemical equilib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hemical equilibrium at RHIC energ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, how about temperature and chemical potent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we learn from particle rat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freeze-out Temperatur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potential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ee of baryon stopp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Ratios contain basic information about collision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35400" y="2155680"/>
            <a:ext cx="3267000" cy="209196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revious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S 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170MeV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270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S :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130MeV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~ 500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4DB-6A2C-4BC7-B485-3B8B6E41B4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90920" y="3751200"/>
            <a:ext cx="1428480" cy="1055880"/>
          </a:xfrm>
          <a:prstGeom prst="downArrow">
            <a:avLst>
              <a:gd name="adj1" fmla="val 50222"/>
              <a:gd name="adj2" fmla="val 40755"/>
            </a:avLst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1720" y="1455840"/>
            <a:ext cx="5181480" cy="2286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7320" y="495000"/>
            <a:ext cx="63500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-rati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6320" y="6434280"/>
            <a:ext cx="6537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learn from particle ra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freeze-out Temperatur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potential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gree of baryon stopping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Ratios contain basic information about collision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9360" y="1868400"/>
            <a:ext cx="4216320" cy="741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760920" y="2790720"/>
            <a:ext cx="1909800" cy="29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171960" y="4853160"/>
                <a:ext cx="3065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832320" y="14479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icl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8480" y="2658960"/>
            <a:ext cx="226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rangeness suppressi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spin-isospin freed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91800" y="3211560"/>
            <a:ext cx="3882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: Baryon numb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Baryon chemic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: Strange quantum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Strange chemic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1240" y="4497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94720" y="44658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ticle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57560" y="5484960"/>
                <a:ext cx="31352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955800" y="4908600"/>
                <a:ext cx="1752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CC3-2183-4F65-A8A1-CB4F867410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am energy depend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1" name="ratio_all" descr=""/>
          <p:cNvPicPr/>
          <p:nvPr/>
        </p:nvPicPr>
        <p:blipFill>
          <a:blip r:embed="rId1"/>
          <a:stretch/>
        </p:blipFill>
        <p:spPr>
          <a:xfrm>
            <a:off x="852480" y="1085760"/>
            <a:ext cx="4667400" cy="3915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5120" y="4898520"/>
            <a:ext cx="642312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ong energy dependenc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increase from SPS and 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yon density at RHIC is much less than AGS and SPS, but not baryon free at mid rapid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Model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Braun-Munzinger et al. Phys.Lett.B.518 41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174MeV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46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 from RHIC four experi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about Au+Au 200GeV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alysis is on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se to baryon free? Tempera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35440" y="1306440"/>
            <a:ext cx="0" cy="106380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40200" y="20192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1320" y="23162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54800" y="982800"/>
            <a:ext cx="23266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90E-7848-4FD6-AE6C-7334D1C91B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7680" y="43128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ntrality Sel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9376" t="20835" r="28908" b="19791"/>
          <a:stretch/>
        </p:blipFill>
        <p:spPr>
          <a:xfrm>
            <a:off x="1679400" y="3870360"/>
            <a:ext cx="5058000" cy="364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88920" y="1069920"/>
          <a:ext cx="4191120" cy="284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069920"/>
                    <a:ext cx="419112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886120" y="29178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5-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19800" y="2738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10-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63840" y="2602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15-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9800" y="7751520"/>
            <a:ext cx="636084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bination of BBC charge and ZDC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Glauber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414680" y="1708200"/>
          <a:ext cx="2186280" cy="2122560"/>
        </p:xfrm>
        <a:graphic>
          <a:graphicData uri="http://schemas.openxmlformats.org/drawingml/2006/table">
            <a:tbl>
              <a:tblPr/>
              <a:tblGrid>
                <a:gridCol w="100980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036600" y="3195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  <a:ea typeface="Times New Roman (Hebrew)"/>
              </a:rPr>
              <a:t>0-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0517000">
            <a:off x="3581280" y="3081240"/>
            <a:ext cx="292320" cy="5367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6520" y="3397320"/>
            <a:ext cx="1384200" cy="500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00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0097"/>
              </a:path>
            </a:pathLst>
          </a:custGeom>
          <a:noFill/>
          <a:ln w="3816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8C7-D3A4-412B-A818-B2555744A9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1" name="phase_new" descr=""/>
          <p:cNvPicPr/>
          <p:nvPr/>
        </p:nvPicPr>
        <p:blipFill>
          <a:blip r:embed="rId1"/>
          <a:stretch/>
        </p:blipFill>
        <p:spPr>
          <a:xfrm>
            <a:off x="0" y="5423040"/>
            <a:ext cx="3325680" cy="3450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3800" y="995040"/>
            <a:ext cx="62816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learn from particle ra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freeze-out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pot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PS :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170MeV,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27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GS :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130MeV, </a:t>
            </a:r>
            <a:r>
              <a:rPr b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~ 500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baryon stopping pow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earliest stage of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on energy loss in hot and dense mat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bar/p ratio decreases with p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Jet quenching moves the pbar/p ratio even below the pp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90920" y="5495760"/>
            <a:ext cx="3173400" cy="316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6200000">
            <a:off x="5417640" y="6760440"/>
            <a:ext cx="25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.N.Wang, PRC58(1998)23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08800" y="8599320"/>
            <a:ext cx="1028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[GeV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92720" y="5267160"/>
            <a:ext cx="18662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QCD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494-7708-4096-8177-118C542271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d_analysis" descr=""/>
          <p:cNvPicPr/>
          <p:nvPr/>
        </p:nvPicPr>
        <p:blipFill>
          <a:blip r:embed="rId1"/>
          <a:stretch/>
        </p:blipFill>
        <p:spPr>
          <a:xfrm>
            <a:off x="28440" y="1550880"/>
            <a:ext cx="4146840" cy="389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477720"/>
            <a:ext cx="63244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ENIX Detect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5928840"/>
            <a:ext cx="58068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mentum resolution 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/p = 0.6 %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.6% p [GeV/c] (Run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F resolution : ~100 ps (Run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an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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45 deg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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7 (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3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71760" y="4464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148280" y="2563920"/>
            <a:ext cx="2652480" cy="26524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 this analysis, we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eam-Beam Counter (BBC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z vertex, start timing for T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ime-of-Flight (T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top timing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rift Chamber (DC)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momentum, flight path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d Chamber 1 (P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additional track z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0A1-18C7-484D-968B-53A7A0B0AE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920" y="555480"/>
            <a:ext cx="6324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Identification by TO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mass2_15p16" descr=""/>
          <p:cNvPicPr/>
          <p:nvPr/>
        </p:nvPicPr>
        <p:blipFill>
          <a:blip r:embed="rId1"/>
          <a:stretch/>
        </p:blipFill>
        <p:spPr>
          <a:xfrm>
            <a:off x="0" y="6156360"/>
            <a:ext cx="4160880" cy="2597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623000">
            <a:off x="2174040" y="7144920"/>
            <a:ext cx="15372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of_panel34_140p180" descr=""/>
          <p:cNvPicPr/>
          <p:nvPr/>
        </p:nvPicPr>
        <p:blipFill>
          <a:blip r:embed="rId2"/>
          <a:stretch/>
        </p:blipFill>
        <p:spPr>
          <a:xfrm>
            <a:off x="0" y="5954760"/>
            <a:ext cx="4172040" cy="28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65160" y="6411960"/>
            <a:ext cx="31640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e can see clea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K,p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ticle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2.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rot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3.5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5943600"/>
            <a:ext cx="185868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ofpid_1200" descr=""/>
          <p:cNvPicPr/>
          <p:nvPr/>
        </p:nvPicPr>
        <p:blipFill>
          <a:blip r:embed="rId3"/>
          <a:stretch/>
        </p:blipFill>
        <p:spPr>
          <a:xfrm>
            <a:off x="905040" y="1197000"/>
            <a:ext cx="5005080" cy="4757760"/>
          </a:xfrm>
          <a:prstGeom prst="rect">
            <a:avLst/>
          </a:prstGeom>
          <a:ln w="19080">
            <a:solidFill>
              <a:srgbClr val="00cc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61B-B97E-4222-BD5C-B5A1EA793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dentified Particle Spectra 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560" y="6154200"/>
            <a:ext cx="59893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rticle spectra of pion, kaon, proton and their anti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+Au collision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nimum bias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6784" r="3449" b="0"/>
          <a:stretch/>
        </p:blipFill>
        <p:spPr>
          <a:xfrm>
            <a:off x="0" y="1469880"/>
            <a:ext cx="6595920" cy="431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52840" y="7365960"/>
                <a:ext cx="1981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869000" y="546120"/>
                <a:ext cx="1915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DEC-569F-448F-AC15-2B733193BA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160" y="495000"/>
            <a:ext cx="6369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ti-particle/particle ratios 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120" y="6708240"/>
            <a:ext cx="6629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dependence as a function of centrality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600" spc="-1" strike="noStrike" baseline="30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98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2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8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87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6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11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/p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@5%centr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0.70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4(stat.) 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07(sy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atioCentdep" descr=""/>
          <p:cNvPicPr/>
          <p:nvPr/>
        </p:nvPicPr>
        <p:blipFill>
          <a:blip r:embed="rId1"/>
          <a:stretch/>
        </p:blipFill>
        <p:spPr>
          <a:xfrm>
            <a:off x="0" y="1317600"/>
            <a:ext cx="6858000" cy="2468520"/>
          </a:xfrm>
          <a:prstGeom prst="rect">
            <a:avLst/>
          </a:prstGeom>
          <a:ln w="0">
            <a:noFill/>
          </a:ln>
        </p:spPr>
      </p:pic>
      <p:pic>
        <p:nvPicPr>
          <p:cNvPr id="117" name="RatioPtdep" descr=""/>
          <p:cNvPicPr/>
          <p:nvPr/>
        </p:nvPicPr>
        <p:blipFill>
          <a:blip r:embed="rId2"/>
          <a:stretch/>
        </p:blipFill>
        <p:spPr>
          <a:xfrm>
            <a:off x="0" y="3994200"/>
            <a:ext cx="6858000" cy="246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1400" y="3843360"/>
            <a:ext cx="1704600" cy="405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520" y="1190520"/>
            <a:ext cx="2460600" cy="368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ty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911840" y="546120"/>
                <a:ext cx="1915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400560" y="4017960"/>
            <a:ext cx="20858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9400" y="1336680"/>
            <a:ext cx="20858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306-20AF-4620-9C37-87A1D64A51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am energy depend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4" name="ratio_all" descr=""/>
          <p:cNvPicPr/>
          <p:nvPr/>
        </p:nvPicPr>
        <p:blipFill>
          <a:blip r:embed="rId1"/>
          <a:stretch/>
        </p:blipFill>
        <p:spPr>
          <a:xfrm>
            <a:off x="0" y="1297080"/>
            <a:ext cx="3843360" cy="3224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280" y="4538160"/>
            <a:ext cx="667080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ong energy dependenc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/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increase from SPS and 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with Thermal mod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chemical potential.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35MeV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aryon free at mid rapid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hermal Model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Braun-Munzinger et al. Phys.Lett.B.518 41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174MeV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46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 from RHIC four experi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about Au+Au 200GeV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alysis is on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se to baryon free? Tempera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1040" y="1487520"/>
            <a:ext cx="0" cy="106344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1160" y="209376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16200" y="263196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65640" y="1087560"/>
            <a:ext cx="23266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57680" y="1076400"/>
            <a:ext cx="2733480" cy="317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67960" y="1459080"/>
            <a:ext cx="15796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PHENIX  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65640" y="1660320"/>
            <a:ext cx="0" cy="7887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42000" y="2030400"/>
            <a:ext cx="666720" cy="11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0200" y="1963800"/>
            <a:ext cx="1332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5360" y="1820880"/>
            <a:ext cx="0" cy="439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684320" y="2902320"/>
            <a:ext cx="39819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.Becattini et al. Phys.Rev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6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024901(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910-485B-4A32-BA9D-A4853F7ECA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tus of Run-2 Analysi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1600" y="6127920"/>
            <a:ext cx="59436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+Au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2 mill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imum bias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T production is on going. abou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s are proc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ion ~ 2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/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ion ~ 4.0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39880" y="6041880"/>
                <a:ext cx="1832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mass2pslice" descr=""/>
          <p:cNvPicPr/>
          <p:nvPr/>
        </p:nvPicPr>
        <p:blipFill>
          <a:blip r:embed="rId1"/>
          <a:stretch/>
        </p:blipFill>
        <p:spPr>
          <a:xfrm>
            <a:off x="3436920" y="1920960"/>
            <a:ext cx="3206880" cy="4151160"/>
          </a:xfrm>
          <a:prstGeom prst="rect">
            <a:avLst/>
          </a:prstGeom>
          <a:ln w="0">
            <a:noFill/>
          </a:ln>
        </p:spPr>
      </p:pic>
      <p:pic>
        <p:nvPicPr>
          <p:cNvPr id="141" name="mass2pall" descr=""/>
          <p:cNvPicPr/>
          <p:nvPr/>
        </p:nvPicPr>
        <p:blipFill>
          <a:blip r:embed="rId2"/>
          <a:stretch/>
        </p:blipFill>
        <p:spPr>
          <a:xfrm>
            <a:off x="3436920" y="1112760"/>
            <a:ext cx="3206880" cy="2176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92600" y="4092480"/>
            <a:ext cx="1265400" cy="30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~ 2.0 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7520" y="5275440"/>
            <a:ext cx="1190880" cy="30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~ 3.5 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ofpid_run2001" descr=""/>
          <p:cNvPicPr/>
          <p:nvPr/>
        </p:nvPicPr>
        <p:blipFill>
          <a:blip r:embed="rId3"/>
          <a:stretch/>
        </p:blipFill>
        <p:spPr>
          <a:xfrm>
            <a:off x="0" y="1411200"/>
            <a:ext cx="3562200" cy="33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56E-BBD4-4F77-9A3C-5CB0124A4A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un2_rawpt_each" descr=""/>
          <p:cNvPicPr/>
          <p:nvPr/>
        </p:nvPicPr>
        <p:blipFill>
          <a:blip r:embed="rId1"/>
          <a:stretch/>
        </p:blipFill>
        <p:spPr>
          <a:xfrm>
            <a:off x="855720" y="1085760"/>
            <a:ext cx="5218200" cy="549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495000"/>
            <a:ext cx="63244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-correcte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spectr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5120" y="6543360"/>
            <a:ext cx="64612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, efficiency and decay corrections are not ap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ugh statistics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, pbar candidate @3.0GeV/c&lt;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4.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2 : ~5K cou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15M event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~30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ull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1 : ~0.1K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statistics by few hund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io Kiyomichi [Univ. of Tsukuba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7FA-A540-44F0-A3AE-A0DFF118A1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S '02 @Ritsumeikan Univ.    Mar. 25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07:40:30Z</dcterms:created>
  <dc:creator>Akio Kiyomichi</dc:creator>
  <dc:description/>
  <dc:language>en-US</dc:language>
  <cp:lastModifiedBy>Akio Kiyomichi</cp:lastModifiedBy>
  <cp:lastPrinted>2001-03-23T23:23:06Z</cp:lastPrinted>
  <dcterms:modified xsi:type="dcterms:W3CDTF">2002-03-24T16:41:33Z</dcterms:modified>
  <cp:revision>217</cp:revision>
  <dc:subject>JPS Spring meeting  3/25/2002</dc:subject>
  <dc:title>PHENIX Hadron Ratio</dc:title>
</cp:coreProperties>
</file>