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858000" cy="9144000"/>
  <p:notesSz cx="10223500" cy="7088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738-4BB1-4D45-8BA9-522DA2E7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480060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99800" y="6296040"/>
            <a:ext cx="480060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B50-F3DB-42CA-A52C-99E026DF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59680" y="522108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99800" y="629604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59680" y="629604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D0E-928E-4EAC-8893-2D9A2F00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15454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23040" y="5221080"/>
            <a:ext cx="15454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45920" y="5221080"/>
            <a:ext cx="15454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99800" y="6296040"/>
            <a:ext cx="15454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23040" y="6296040"/>
            <a:ext cx="15454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345920" y="6296040"/>
            <a:ext cx="15454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503-BAE7-42FD-8DB2-E73CDFA8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629C-2480-4BC7-B95C-E3865A04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99800" y="5221080"/>
            <a:ext cx="480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0BEF-22F1-4397-9758-AF8E981C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4800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7F4E-77DA-4ED9-B50E-C4ABA080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2342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59680" y="5221080"/>
            <a:ext cx="2342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625E-DB9C-4B09-A25F-3E4F322D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56C0-7509-4E39-89DA-1A6741B0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5790960" cy="70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DCFA-F8BF-4422-B161-6E407F7F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59680" y="5221080"/>
            <a:ext cx="2342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99800" y="629604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2F36-4040-45B3-9B45-EEC116DE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99800" y="5221080"/>
            <a:ext cx="480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A67-DF71-4E14-882E-DAD42EAB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2342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9680" y="522108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59680" y="629604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63B5-2A97-4D88-8E1E-11DF2289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59680" y="522108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99800" y="6296040"/>
            <a:ext cx="480060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9E4B-FC7B-4262-B98F-BEBC6F49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480060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99800" y="6296040"/>
            <a:ext cx="480060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6AB8-0FCA-421E-A7DB-59C1662A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9680" y="522108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99800" y="629604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59680" y="629604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43B3-CC88-4822-8302-9DB9AABC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15454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23040" y="5221080"/>
            <a:ext cx="15454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45920" y="5221080"/>
            <a:ext cx="15454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99800" y="6296040"/>
            <a:ext cx="15454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23040" y="6296040"/>
            <a:ext cx="15454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345920" y="6296040"/>
            <a:ext cx="15454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6C5D-2F30-4C55-A27D-09C25A3B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4800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5BB-D0BB-416A-A4FE-B6814398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2342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59680" y="5221080"/>
            <a:ext cx="2342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97C-3534-4412-A983-6628CF5F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DC3-008E-4911-85E5-8A1FB571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5790960" cy="70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B75-9505-476E-BDCA-886F3AD8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59680" y="5221080"/>
            <a:ext cx="2342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99800" y="629604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987-B9CD-45AE-A431-5A423981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2342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59680" y="522108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9680" y="629604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DCC-3726-4E2C-9C7C-F795B54F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99800" y="522108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9680" y="5221080"/>
            <a:ext cx="2342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99800" y="6296040"/>
            <a:ext cx="480060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5E52-5404-41BF-91FC-F344916F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henix_logo2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54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4440" y="5124240"/>
            <a:ext cx="582912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038480" y="-36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8851680"/>
            <a:ext cx="2819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ja-JP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2971800" y="885168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C733-8710-45BE-88E0-7AF83BA52D41}" type="slidenum">
              <a:rPr b="0" lang="ja-JP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henix_logo2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549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83055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E28F-9DBF-47A4-8D85-3F6142BBE4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Narrow"/>
              </a:rPr>
              <a:t>Study of Charged Particle Ratio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 Narrow"/>
              </a:rPr>
              <a:t>at RHIC-PHENIX experimen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040" y="46483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ontents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Motivation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PHENIX Detector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Hadron PID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Particle ratio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  <a:ea typeface="ＭＳ Ｐゴシック"/>
              </a:rPr>
              <a:t>K</a:t>
            </a:r>
            <a:r>
              <a:rPr b="1" lang="en-US" sz="1800" spc="-1" strike="noStrike" baseline="30000">
                <a:solidFill>
                  <a:srgbClr val="00cc99"/>
                </a:solidFill>
                <a:latin typeface="Courier New"/>
                <a:ea typeface="ＭＳ Ｐゴシック"/>
              </a:rPr>
              <a:t>+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  <a:ea typeface="ＭＳ Ｐゴシック"/>
              </a:rPr>
              <a:t>/K</a:t>
            </a:r>
            <a:r>
              <a:rPr b="1" lang="en-US" sz="1800" spc="-1" strike="noStrike" baseline="30000">
                <a:solidFill>
                  <a:srgbClr val="00cc99"/>
                </a:solidFill>
                <a:latin typeface="Courier New"/>
                <a:ea typeface="ＭＳ Ｐゴシック"/>
              </a:rPr>
              <a:t>-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 ratio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Symbol"/>
                <a:ea typeface="Symbol"/>
              </a:rPr>
              <a:t>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  <a:ea typeface="ＭＳ Ｐゴシック"/>
              </a:rPr>
              <a:t>p/p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 ratio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Conclusion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9760" y="2612880"/>
            <a:ext cx="42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.of Tsuku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Kiyomich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the PHENIX Collab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35680" y="3703680"/>
            <a:ext cx="32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PS meeting at Chuo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rch 28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eam energy dependen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58360" y="7980120"/>
            <a:ext cx="5829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th ratios are getting close to 1.0 from AGS,SPS to RH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kratio0" descr=""/>
          <p:cNvPicPr/>
          <p:nvPr/>
        </p:nvPicPr>
        <p:blipFill>
          <a:blip r:embed="rId1"/>
          <a:stretch/>
        </p:blipFill>
        <p:spPr>
          <a:xfrm>
            <a:off x="1212840" y="1055520"/>
            <a:ext cx="4610160" cy="3440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336760" y="146520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+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57640" y="186516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+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94120" y="1550880"/>
            <a:ext cx="54000" cy="576360"/>
          </a:xfrm>
          <a:custGeom>
            <a:avLst/>
            <a:gdLst>
              <a:gd name="textAreaLeft" fmla="*/ 0 w 54000"/>
              <a:gd name="textAreaRight" fmla="*/ 19440 w 54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79080" y="1666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87400" y="22590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866/ E9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u+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2240" y="2881440"/>
            <a:ext cx="72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8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i+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40160" y="2654280"/>
            <a:ext cx="7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A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b+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27080" y="327168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S+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787400"/>
            <a:ext cx="109872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K</a:t>
            </a:r>
            <a:r>
              <a:rPr b="1" lang="en-US" sz="2400" spc="-1" strike="noStrike" baseline="30000">
                <a:solidFill>
                  <a:srgbClr val="0000cc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/K</a:t>
            </a:r>
            <a:r>
              <a:rPr b="1" lang="en-US" sz="2400" spc="-1" strike="noStrike" baseline="30000">
                <a:solidFill>
                  <a:srgbClr val="0000cc"/>
                </a:solidFill>
                <a:latin typeface="Courier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85880" y="36147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94960" y="3211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"/>
              </a:rPr>
              <a:t>NA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57800" y="2665440"/>
            <a:ext cx="1294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PHEN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c1" descr=""/>
          <p:cNvPicPr/>
          <p:nvPr/>
        </p:nvPicPr>
        <p:blipFill>
          <a:blip r:embed="rId2"/>
          <a:stretch/>
        </p:blipFill>
        <p:spPr>
          <a:xfrm>
            <a:off x="1211400" y="4668840"/>
            <a:ext cx="4443120" cy="3191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430880" y="5408640"/>
            <a:ext cx="1294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PHENIX </a:t>
            </a:r>
            <a:br>
              <a:rPr sz="1800"/>
            </a:b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41000" y="6465960"/>
            <a:ext cx="7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8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u+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3240" y="5396040"/>
            <a:ext cx="798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NA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Pb+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5600" y="5089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148360" y="4135320"/>
                <a:ext cx="1012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068800" y="7550280"/>
                <a:ext cx="1013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65120" y="5235480"/>
            <a:ext cx="107784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p/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26920" y="43592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22360" y="43592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25960" y="4379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1720" y="4392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R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97C-2761-4747-B0C9-7EC2821594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1 @Chuo Univ.    Mar. 2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09720" y="998640"/>
            <a:ext cx="3910320" cy="4543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mparison with Thermal mod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385800" y="5932080"/>
            <a:ext cx="333540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rmal model tells 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ryon chemical potential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~50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Not baryon free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=0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87880" y="1528920"/>
            <a:ext cx="22730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PHENIX 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3768480" y="1117080"/>
            <a:ext cx="228600" cy="304920"/>
          </a:xfrm>
          <a:prstGeom prst="upArrow">
            <a:avLst>
              <a:gd name="adj1" fmla="val 41667"/>
              <a:gd name="adj2" fmla="val 47938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881520" y="1528560"/>
            <a:ext cx="0" cy="912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405240" y="1965240"/>
            <a:ext cx="92376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1898640"/>
            <a:ext cx="1332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1520" y="1755720"/>
            <a:ext cx="0" cy="439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160" y="2003400"/>
            <a:ext cx="266652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therm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p-ph/000226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Becattini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hase_new3" descr=""/>
          <p:cNvPicPr/>
          <p:nvPr/>
        </p:nvPicPr>
        <p:blipFill>
          <a:blip r:embed="rId2"/>
          <a:stretch/>
        </p:blipFill>
        <p:spPr>
          <a:xfrm>
            <a:off x="0" y="5348160"/>
            <a:ext cx="3657600" cy="3795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76360" y="6934320"/>
            <a:ext cx="127080" cy="428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0"/>
            <a:endCxn id="203" idx="1"/>
          </p:cNvCxnSpPr>
          <p:nvPr/>
        </p:nvCxnSpPr>
        <p:spPr>
          <a:xfrm flipV="1">
            <a:off x="639360" y="6273000"/>
            <a:ext cx="289440" cy="661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935280" y="6100920"/>
            <a:ext cx="67608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H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CFD-D962-478D-A2E3-DCB14320F6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1 @Chuo Univ.    Mar. 2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9920" y="1581120"/>
            <a:ext cx="649584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 clear centrality dependence are seen in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K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K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and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p/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ratio within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 clear p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dependence are seen in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/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p/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ratio within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article ratio at 5% most central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K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urier New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K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urier New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 1.29 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07(stat.) 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19(sy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/p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 0.54 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01(stat.) 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08(sy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/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p/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ratios are closing to 1.0 from AGS, SPS to RHIC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ryon density at RHIC is much less than AGS and SPS, but not baryon free at mid rapid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ryon chemical potential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~ 50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12A-C537-4E10-A8AC-2631FDB572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1 @Chuo Univ.    Mar. 2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4600" y="1031400"/>
            <a:ext cx="650232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HIC-PHENIX</a:t>
            </a:r>
            <a:r>
              <a:rPr b="1" lang="ja-JP" sz="3600" spc="-1" strike="noStrike">
                <a:solidFill>
                  <a:srgbClr val="3333cc"/>
                </a:solidFill>
                <a:latin typeface="Arial Narrow"/>
              </a:rPr>
              <a:t>実験における</a:t>
            </a:r>
            <a:br>
              <a:rPr sz="3600"/>
            </a:br>
            <a:r>
              <a:rPr b="1" lang="ja-JP" sz="3600" spc="-1" strike="noStrike">
                <a:solidFill>
                  <a:srgbClr val="3333cc"/>
                </a:solidFill>
                <a:latin typeface="Arial Narrow"/>
              </a:rPr>
              <a:t>ハドロンの生成比</a:t>
            </a:r>
            <a:br>
              <a:rPr sz="36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udy of Charged Particle Ratio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t RHIC-PHENIX experi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29880" y="512604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ontents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Motivation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PHENIX Detector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Hadron PID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Result: Particle ratio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  <a:ea typeface="ＭＳ Ｐゴシック"/>
              </a:rPr>
              <a:t>K</a:t>
            </a:r>
            <a:r>
              <a:rPr b="1" lang="en-US" sz="1800" spc="-1" strike="noStrike" baseline="30000">
                <a:solidFill>
                  <a:srgbClr val="00cc99"/>
                </a:solidFill>
                <a:latin typeface="Courier New"/>
                <a:ea typeface="ＭＳ Ｐゴシック"/>
              </a:rPr>
              <a:t>+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  <a:ea typeface="ＭＳ Ｐゴシック"/>
              </a:rPr>
              <a:t>/K</a:t>
            </a:r>
            <a:r>
              <a:rPr b="1" lang="en-US" sz="1800" spc="-1" strike="noStrike" baseline="30000">
                <a:solidFill>
                  <a:srgbClr val="00cc99"/>
                </a:solidFill>
                <a:latin typeface="Courier New"/>
                <a:ea typeface="ＭＳ Ｐゴシック"/>
              </a:rPr>
              <a:t>-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 ratio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Symbol"/>
                <a:ea typeface="Symbol"/>
              </a:rPr>
              <a:t>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  <a:ea typeface="ＭＳ Ｐゴシック"/>
              </a:rPr>
              <a:t>p/p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 ratio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Conclusion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800" y="3832200"/>
            <a:ext cx="42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.of Tsuku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Kiyomich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the PHENIX Collab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64480" y="4648320"/>
            <a:ext cx="32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PS meeting at Chuo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rch 28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ig3" descr=""/>
          <p:cNvPicPr/>
          <p:nvPr/>
        </p:nvPicPr>
        <p:blipFill>
          <a:blip r:embed="rId1"/>
          <a:stretch/>
        </p:blipFill>
        <p:spPr>
          <a:xfrm>
            <a:off x="466560" y="1077840"/>
            <a:ext cx="4695840" cy="2895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0" name="phase_new" descr=""/>
          <p:cNvPicPr/>
          <p:nvPr/>
        </p:nvPicPr>
        <p:blipFill>
          <a:blip r:embed="rId2"/>
          <a:stretch/>
        </p:blipFill>
        <p:spPr>
          <a:xfrm>
            <a:off x="0" y="5692680"/>
            <a:ext cx="3325680" cy="3451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59840" y="1069920"/>
            <a:ext cx="19501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S Pb+Pb 158A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920" y="2500200"/>
            <a:ext cx="2670840" cy="73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Braun-Munzi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.Phys.A681:119-123(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-ex/0007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3947760"/>
            <a:ext cx="6566040" cy="19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from SPS and A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greement with predictions of a thermal model assuming chemical equilib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re chemical equilibration at RHIC ener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, how about temperature and chemical potent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81480" y="6415200"/>
            <a:ext cx="3267000" cy="19018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previous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PS :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Times New Roman"/>
              </a:rPr>
              <a:t>ch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~ 170MeV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~ 270M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GS :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Times New Roman"/>
              </a:rPr>
              <a:t>ch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~ 130MeV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~ 500M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13800">
            <a:off x="-582120" y="1953360"/>
            <a:ext cx="21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cle r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63480" y="325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: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=168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48E-7B57-4BDB-A73B-F5389C48BC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1 @Chuo Univ.    Mar. 2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90920" y="3751200"/>
            <a:ext cx="1428480" cy="1055880"/>
          </a:xfrm>
          <a:prstGeom prst="downArrow">
            <a:avLst>
              <a:gd name="adj1" fmla="val 50222"/>
              <a:gd name="adj2" fmla="val 40755"/>
            </a:avLst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1720" y="1455840"/>
            <a:ext cx="5181480" cy="2286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320" y="495000"/>
            <a:ext cx="63500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ticle-ratio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0" y="6635880"/>
            <a:ext cx="629136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learn from particle rat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 freeze-out Temperature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 potential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 of baryon stopp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atios contain basic information about collisi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9360" y="1868400"/>
            <a:ext cx="4216320" cy="74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760920" y="2790720"/>
            <a:ext cx="1909800" cy="29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171960" y="4853160"/>
                <a:ext cx="3065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832320" y="144792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icle 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78480" y="2658960"/>
            <a:ext cx="226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trangeness suppressi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 spin-isospin freed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92160" y="3211560"/>
            <a:ext cx="3907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: Baryon numb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 Baryon chemical pot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: Strange quantum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 Strange chemical pot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240" y="44974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7680" y="44528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rticle R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18040" y="5595840"/>
                <a:ext cx="31352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55800" y="4908600"/>
                <a:ext cx="1752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7CF-7D45-4789-B2DA-CDAC894276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1 @Chuo Univ.    Mar. 2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d_analysis" descr=""/>
          <p:cNvPicPr/>
          <p:nvPr/>
        </p:nvPicPr>
        <p:blipFill>
          <a:blip r:embed="rId1"/>
          <a:stretch/>
        </p:blipFill>
        <p:spPr>
          <a:xfrm>
            <a:off x="131760" y="1254240"/>
            <a:ext cx="4008600" cy="3360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680" y="34272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ENIX Experim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5800" y="4973760"/>
            <a:ext cx="39178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+Au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y|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0.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, P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D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C,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of-Flight re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0~12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of_at_bnl99sep13" descr=""/>
          <p:cNvPicPr/>
          <p:nvPr/>
        </p:nvPicPr>
        <p:blipFill>
          <a:blip r:embed="rId2"/>
          <a:stretch/>
        </p:blipFill>
        <p:spPr>
          <a:xfrm>
            <a:off x="4375080" y="5554800"/>
            <a:ext cx="2287800" cy="3049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826880" y="7683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371760" y="4464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4946760"/>
                <a:ext cx="1811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980100e1" descr=""/>
          <p:cNvPicPr/>
          <p:nvPr/>
        </p:nvPicPr>
        <p:blipFill>
          <a:blip r:embed="rId3"/>
          <a:stretch/>
        </p:blipFill>
        <p:spPr>
          <a:xfrm>
            <a:off x="4357800" y="3489480"/>
            <a:ext cx="2303280" cy="1933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373640" y="1698480"/>
            <a:ext cx="2341440" cy="1643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64280" y="49608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77600" y="175428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C+P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2AF-3489-4E2E-BFCC-547209EF85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1 @Chuo Univ.    Mar. 2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7680" y="43128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ntrality Sel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9376" t="20835" r="28908" b="19791"/>
          <a:stretch/>
        </p:blipFill>
        <p:spPr>
          <a:xfrm>
            <a:off x="1679400" y="3870360"/>
            <a:ext cx="5058000" cy="364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88920" y="1069920"/>
          <a:ext cx="4191120" cy="284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069920"/>
                    <a:ext cx="419112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886120" y="29178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  <a:ea typeface="Times New Roman (Hebrew)"/>
              </a:rPr>
              <a:t>5-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19800" y="27385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  <a:ea typeface="Times New Roman (Hebrew)"/>
              </a:rPr>
              <a:t>10-1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3840" y="2602080"/>
            <a:ext cx="7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  <a:ea typeface="Times New Roman (Hebrew)"/>
              </a:rPr>
              <a:t>15-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9800" y="7751520"/>
            <a:ext cx="636084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mbination of BBC charge and ZDC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sed on Glauber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414680" y="1708200"/>
          <a:ext cx="2186280" cy="2122560"/>
        </p:xfrm>
        <a:graphic>
          <a:graphicData uri="http://schemas.openxmlformats.org/drawingml/2006/table">
            <a:tbl>
              <a:tblPr/>
              <a:tblGrid>
                <a:gridCol w="1009800"/>
                <a:gridCol w="1176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 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 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 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 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036600" y="3195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  <a:ea typeface="Times New Roman (Hebrew)"/>
              </a:rPr>
              <a:t>0-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0517000">
            <a:off x="3581280" y="3081240"/>
            <a:ext cx="292320" cy="5367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6520" y="3397320"/>
            <a:ext cx="1384200" cy="500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00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0097"/>
              </a:path>
            </a:pathLst>
          </a:custGeom>
          <a:noFill/>
          <a:ln w="38160">
            <a:solidFill>
              <a:srgbClr val="00cc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8AB-9E7D-4B4D-AC36-F8C4C9C405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1 @Chuo Univ.    Mar. 2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of_pt190" descr=""/>
          <p:cNvPicPr/>
          <p:nvPr/>
        </p:nvPicPr>
        <p:blipFill>
          <a:blip r:embed="rId1"/>
          <a:stretch/>
        </p:blipFill>
        <p:spPr>
          <a:xfrm>
            <a:off x="0" y="5684760"/>
            <a:ext cx="407844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9920" y="406440"/>
            <a:ext cx="6324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ticle Identific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6" name="tofpid" descr=""/>
          <p:cNvPicPr/>
          <p:nvPr/>
        </p:nvPicPr>
        <p:blipFill>
          <a:blip r:embed="rId2"/>
          <a:stretch/>
        </p:blipFill>
        <p:spPr>
          <a:xfrm>
            <a:off x="1225440" y="1238400"/>
            <a:ext cx="4284720" cy="4111560"/>
          </a:xfrm>
          <a:prstGeom prst="rect">
            <a:avLst/>
          </a:prstGeom>
          <a:ln w="19080">
            <a:solidFill>
              <a:srgbClr val="00cc99"/>
            </a:solidFill>
            <a:miter/>
          </a:ln>
        </p:spPr>
      </p:pic>
      <p:pic>
        <p:nvPicPr>
          <p:cNvPr id="137" name="mass2_15p16" descr=""/>
          <p:cNvPicPr/>
          <p:nvPr/>
        </p:nvPicPr>
        <p:blipFill>
          <a:blip r:embed="rId3"/>
          <a:stretch/>
        </p:blipFill>
        <p:spPr>
          <a:xfrm>
            <a:off x="0" y="5595840"/>
            <a:ext cx="4160880" cy="2597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560" y="6019560"/>
            <a:ext cx="268776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e can see clear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,K,p s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article s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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 &lt; 1.6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/p  &lt; 3.5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3000">
            <a:off x="2148480" y="6436800"/>
            <a:ext cx="15372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008-4FF6-408A-B21E-FB488366D2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1 @Chuo Univ.    Mar. 2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dentified Particle Spectr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560" y="5393880"/>
            <a:ext cx="5989320" cy="34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article spectra of pion, kaon, prot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ir anti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ing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y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al accep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tminb" descr=""/>
          <p:cNvPicPr/>
          <p:nvPr/>
        </p:nvPicPr>
        <p:blipFill>
          <a:blip r:embed="rId1"/>
          <a:stretch/>
        </p:blipFill>
        <p:spPr>
          <a:xfrm>
            <a:off x="165240" y="1087560"/>
            <a:ext cx="6476760" cy="41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032-66A4-4305-8B22-3842D88AF0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1 @Chuo Univ.    Mar. 2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kpkm_cent" descr=""/>
          <p:cNvPicPr/>
          <p:nvPr/>
        </p:nvPicPr>
        <p:blipFill>
          <a:blip r:embed="rId1"/>
          <a:stretch/>
        </p:blipFill>
        <p:spPr>
          <a:xfrm>
            <a:off x="917640" y="4210200"/>
            <a:ext cx="5157720" cy="3435120"/>
          </a:xfrm>
          <a:prstGeom prst="rect">
            <a:avLst/>
          </a:prstGeom>
          <a:ln w="0">
            <a:noFill/>
          </a:ln>
        </p:spPr>
      </p:pic>
      <p:pic>
        <p:nvPicPr>
          <p:cNvPr id="144" name="c1" descr=""/>
          <p:cNvPicPr/>
          <p:nvPr/>
        </p:nvPicPr>
        <p:blipFill>
          <a:blip r:embed="rId2"/>
          <a:stretch/>
        </p:blipFill>
        <p:spPr>
          <a:xfrm>
            <a:off x="1006560" y="839880"/>
            <a:ext cx="5049720" cy="3424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2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/K</a:t>
            </a:r>
            <a:r>
              <a:rPr b="1" lang="en-US" sz="32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ratio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" y="7626240"/>
            <a:ext cx="676944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lear dependence as a function of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entr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K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-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@5%central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= 1.29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7(stat.)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19(sys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737280" y="1316880"/>
            <a:ext cx="694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+/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7920" y="3983040"/>
            <a:ext cx="1095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[GeV/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000" y="3159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49800" y="347976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bia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0200" y="995400"/>
            <a:ext cx="1704600" cy="405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27280" y="4265640"/>
            <a:ext cx="2460600" cy="368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ty 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2440" y="4687560"/>
            <a:ext cx="694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+/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20E-0F04-4B9E-A2D9-ED9E070E09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1 @Chuo Univ.    Mar. 2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barp_cent" descr=""/>
          <p:cNvPicPr/>
          <p:nvPr/>
        </p:nvPicPr>
        <p:blipFill>
          <a:blip r:embed="rId1"/>
          <a:stretch/>
        </p:blipFill>
        <p:spPr>
          <a:xfrm>
            <a:off x="844560" y="4172040"/>
            <a:ext cx="5180040" cy="3605040"/>
          </a:xfrm>
          <a:prstGeom prst="rect">
            <a:avLst/>
          </a:prstGeom>
          <a:ln w="0">
            <a:noFill/>
          </a:ln>
        </p:spPr>
      </p:pic>
      <p:pic>
        <p:nvPicPr>
          <p:cNvPr id="155" name="ppbar_pt" descr=""/>
          <p:cNvPicPr/>
          <p:nvPr/>
        </p:nvPicPr>
        <p:blipFill>
          <a:blip r:embed="rId2"/>
          <a:stretch/>
        </p:blipFill>
        <p:spPr>
          <a:xfrm>
            <a:off x="979560" y="1020600"/>
            <a:ext cx="5045040" cy="3257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p/p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ratio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080" y="7667280"/>
            <a:ext cx="66182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lear dependence 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he measured 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ghtly decreasing as a function of centr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/p@5%central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= 0.54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1(stat.)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8(sy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96480" y="5811840"/>
            <a:ext cx="261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 errors ~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90200" y="995400"/>
            <a:ext cx="1704600" cy="405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27280" y="4265640"/>
            <a:ext cx="2460600" cy="368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ty 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371520" y="1570320"/>
            <a:ext cx="120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bar/p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78080" y="4864320"/>
            <a:ext cx="120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bar/p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AC1-ECC8-4577-9921-085A97E742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1 @Chuo Univ.    Mar. 2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07:40:30Z</dcterms:created>
  <dc:creator>Akio Kiyomichi</dc:creator>
  <dc:description/>
  <dc:language>en-US</dc:language>
  <cp:lastModifiedBy>Akio Kiyomichi</cp:lastModifiedBy>
  <cp:lastPrinted>2001-03-23T23:23:06Z</cp:lastPrinted>
  <dcterms:modified xsi:type="dcterms:W3CDTF">2001-03-27T00:10:40Z</dcterms:modified>
  <cp:revision>165</cp:revision>
  <dc:subject>JPS Spring meeting  3/28/2001</dc:subject>
  <dc:title>PHENIX Hadron Ratio</dc:title>
</cp:coreProperties>
</file>