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2.png" ContentType="image/png"/>
  <Override PartName="/ppt/media/image7.png" ContentType="image/png"/>
  <Override PartName="/ppt/media/image4.pct" ContentType="image/x-pict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ja-JP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46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7F484671-E3C0-4DF8-915C-43EE27F26BF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33DC6D93-7AAF-4D66-B1BD-E7042D537C7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FDDACFE9-D6D5-4E97-92BA-0A0D0CD9334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D63-5FF2-4C32-A3B1-734979BB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967-06B2-4863-9596-AD244976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194-50AA-4A69-A56E-259A186A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9AB-5C0E-4D8B-9F31-8DC13E7F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76AD-A90B-48AB-AF9A-4481C4E4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E352-1235-4579-AD1F-54040786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AA33-89C2-4500-9423-B3BE257E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2FFA-AC12-4A6F-9599-5622CD25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6F7C-921F-4F3C-873B-2A0CB35A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609480"/>
            <a:ext cx="84330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E41C-5E93-4C96-B0DC-AC391819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3488-CA18-466D-93EF-7AB48B97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E1E-CD23-48F3-A7A1-C8963131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53A4-D709-491C-8057-0BB339D4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7750-FC85-47C8-A5F8-E3CC0508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5867-F4BA-4EF2-8F4F-E68F72BE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5146-2A7E-4504-AB7F-58337715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7082-DD75-4256-8D9E-6484AD4C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9C5-CA1E-453E-B3AA-3D87EC18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217-76ED-4EB7-AEFE-1FF25B60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26C-4913-4760-BA08-C6A229D9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609480"/>
            <a:ext cx="84330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0FA-73C8-4C76-91E1-EDAB8237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812-A526-4B97-8A90-5B267CB6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2C1-1F58-41C0-9BB8-B09ADACD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BE6-A0D7-4A05-9CE6-E6DFA6E7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30400" cy="714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114800" y="7596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08560" y="6477120"/>
            <a:ext cx="3759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962520" y="6477120"/>
            <a:ext cx="1117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F06B-E000-4D2A-BA61-C9AC32B2944F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91D0-DEE7-4EF4-98BD-EB64F1148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31840" cy="712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33720" y="594360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Times New Roman"/>
              </a:rPr>
              <a:t>DNP03 meeting at Tuc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cc99"/>
                </a:solidFill>
                <a:latin typeface="Times New Roman"/>
              </a:rPr>
              <a:t>November 1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adial Flow Study from Identified Hadron Spectra in Au+Au collisions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at                 200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411444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kio Kiyomich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IKE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PHENIX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1879560" cy="46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32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53080" y="3886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57800" y="1087560"/>
            <a:ext cx="3603600" cy="5770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Contours in parameter space T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fo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20 n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our levels are shown in each centr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figure show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st result of simultaneous fitting for most-central spec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figure show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ours for each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large meshes, 1 sigma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clearly determ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more smooth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48000" y="14479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-5%:most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831-5796-46E2-B676-EE89A1E600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counter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5257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ers for the mid-central and most peripheral spec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7920" y="1344600"/>
            <a:ext cx="4446360" cy="3532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1344600"/>
            <a:ext cx="4446720" cy="3532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93480" y="16002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d-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0-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2880" y="160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-9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FF3-30DE-44ED-8B93-1361A57E8D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62520" y="1219320"/>
            <a:ext cx="5083200" cy="4876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4326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entrality dependence of T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fo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on parameters in each centr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circle and lines are PHENIX Preliminary at QM2002, which take blast-wave function 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is analysis, which include resonance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e of expansion is ob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central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t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peripheral :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increase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BB5-D4D1-4D3A-BCD7-9C0FCEBF2C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esent the final result of identified charged hadro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tra in Au+Au collisions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00 GeV from PHEN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6ff"/>
                </a:solidFill>
                <a:latin typeface="Arial"/>
              </a:rPr>
              <a:t>PHENIX Collaboration S.S.Adler et al., accepted to PRC, nucl-ex/0307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-dynamical Collective Expa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of 200 GeV data indicate a strong collective expansion at central colli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vs. centrality : the heavier mass, the larger 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rise at peripheral to mid-central colli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-dynamical model fit to the spectra with resonance decay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e of expansion is ob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central 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t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peripheral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 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increase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C8F-0C36-406B-8183-30ABF32991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HENIX Collabora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2EF-2C35-45B8-85EB-D8CE26A169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vidence for equilibrated final stat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1" name="magestro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537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most complete reconstruction of hadronic state when system  decouples by the statistical thermal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t yields vs. mass (grand canonical ensem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400" spc="-1" strike="noStrike" baseline="-20000">
                <a:solidFill>
                  <a:srgbClr val="0000ff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= 177 MeV,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= 29 MeV @ 200 GeV central Au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9920" y="76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175-829A-4288-81B8-03F2C3DF58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7640" y="549360"/>
            <a:ext cx="9049680" cy="4495680"/>
            <a:chOff x="17640" y="549360"/>
            <a:chExt cx="9049680" cy="4495680"/>
          </a:xfrm>
        </p:grpSpPr>
        <p:sp>
          <p:nvSpPr>
            <p:cNvPr id="185" name=""/>
            <p:cNvSpPr/>
            <p:nvPr/>
          </p:nvSpPr>
          <p:spPr>
            <a:xfrm>
              <a:off x="17640" y="549360"/>
              <a:ext cx="9049680" cy="44956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640" y="549360"/>
              <a:ext cx="9049680" cy="35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0000"/>
                  </a:solidFill>
                  <a:latin typeface="Times New Roman"/>
                  <a:ea typeface="Times New Roman (Hebrew)"/>
                </a:rPr>
                <a:t>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Run      Year         Species    s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  <a:ea typeface="Times New Roman (Hebrew)"/>
                </a:rPr>
                <a:t>1/2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[GeV ]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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Ldt            N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  <a:ea typeface="Times New Roman (Hebrew)"/>
                </a:rPr>
                <a:t>tot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p-p Equivalent   Data Si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0000"/>
                  </a:solidFill>
                  <a:latin typeface="Times New Roman"/>
                  <a:ea typeface="Times New Roman (Hebrew)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01       2000          Au-Au         130          1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b</a:t>
              </a:r>
              <a:r>
                <a:rPr b="0" lang="en-GB" sz="2000" spc="-1" strike="noStrike" baseline="33000">
                  <a:solidFill>
                    <a:srgbClr val="000000"/>
                  </a:solidFill>
                  <a:latin typeface="Times New Roman"/>
                  <a:ea typeface="Times New Roman (Hebrew)"/>
                </a:rPr>
                <a:t>-1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         10M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.04 pb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 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02    2001/2002    Au-Au         200        24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b</a:t>
              </a:r>
              <a:r>
                <a:rPr b="0" lang="en-GB" sz="2000" spc="-1" strike="noStrike" baseline="33000">
                  <a:solidFill>
                    <a:srgbClr val="000000"/>
                  </a:solidFill>
                  <a:latin typeface="Times New Roman"/>
                  <a:ea typeface="Times New Roman (Hebrew)"/>
                </a:rPr>
                <a:t>-1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       170M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.0 pb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0 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         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p-p            200          0.15 pb</a:t>
              </a:r>
              <a:r>
                <a:rPr b="0" lang="en-GB" sz="2000" spc="-1" strike="noStrike" baseline="33000">
                  <a:solidFill>
                    <a:srgbClr val="000000"/>
                  </a:solidFill>
                  <a:latin typeface="Times New Roman"/>
                  <a:ea typeface="Times New Roman (Hebrew)"/>
                </a:rPr>
                <a:t>-1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    3.7G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0.15 pb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  <a:ea typeface="Times New Roman (Hebrew)"/>
                </a:rPr>
                <a:t>-1 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20 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03</a:t>
              </a:r>
              <a:r>
                <a:rPr b="0" lang="en-GB" sz="2000" spc="-1" strike="noStrike">
                  <a:solidFill>
                    <a:srgbClr val="0000ff"/>
                  </a:solidFill>
                  <a:latin typeface="Times New Roman"/>
                  <a:ea typeface="Times New Roman (Hebrew)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   2002/2003       d-Au         200         2.74 nb</a:t>
              </a:r>
              <a:r>
                <a:rPr b="0" lang="en-GB" sz="2000" spc="-1" strike="noStrike" baseline="33000">
                  <a:solidFill>
                    <a:srgbClr val="000000"/>
                  </a:solidFill>
                  <a:latin typeface="Times New Roman"/>
                  <a:ea typeface="Times New Roman (Hebrew)"/>
                </a:rPr>
                <a:t>-1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     5.5G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.1 pb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6 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         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p-p            200         0.35 pb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  <a:ea typeface="Times New Roman (Hebrew)"/>
                </a:rPr>
                <a:t>-1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    6.6G            0.35 pb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  <a:ea typeface="Times New Roman (Hebrew)"/>
                </a:rPr>
                <a:t>-1 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 (Hebrew)"/>
                </a:rPr>
                <a:t>35 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25400" y="861840"/>
            <a:ext cx="0" cy="281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0" y="1371600"/>
            <a:ext cx="9144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5080" y="3716280"/>
            <a:ext cx="8584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371760" y="3825720"/>
            <a:ext cx="2208240" cy="2843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87240" y="3833640"/>
            <a:ext cx="2144880" cy="2764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37440" y="3811680"/>
            <a:ext cx="2193840" cy="27860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rot="16200000">
            <a:off x="-115560" y="4948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2617920" y="50958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5524560" y="50673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HENIX Run History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9920" y="76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1D0-7113-4E12-927C-EE15182FB2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vent Characteriza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267080" cy="2725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82760" y="5334120"/>
            <a:ext cx="8177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ty selection : Used charge sum of Beam-Beam Cou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=3~4) and energy of Zero-degree calorimeter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D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bias events (92% of total inelastic cross section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Glaub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267080" cy="338004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5028840" y="3429000"/>
            <a:ext cx="457560" cy="914400"/>
            <a:chOff x="5028840" y="3429000"/>
            <a:chExt cx="457560" cy="914400"/>
          </a:xfrm>
        </p:grpSpPr>
        <p:sp>
          <p:nvSpPr>
            <p:cNvPr id="203" name=""/>
            <p:cNvSpPr/>
            <p:nvPr/>
          </p:nvSpPr>
          <p:spPr>
            <a:xfrm>
              <a:off x="5029200" y="3429000"/>
              <a:ext cx="2286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57800" y="3886200"/>
              <a:ext cx="2286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57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028840" y="4114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467480" y="3809880"/>
            <a:ext cx="685800" cy="457200"/>
            <a:chOff x="7467480" y="3809880"/>
            <a:chExt cx="685800" cy="457200"/>
          </a:xfrm>
        </p:grpSpPr>
        <p:sp>
          <p:nvSpPr>
            <p:cNvPr id="208" name=""/>
            <p:cNvSpPr/>
            <p:nvPr/>
          </p:nvSpPr>
          <p:spPr>
            <a:xfrm>
              <a:off x="7467480" y="3809880"/>
              <a:ext cx="2286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24680" y="3809880"/>
              <a:ext cx="2286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9608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95720" y="4114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873320" y="464832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                        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9920" y="76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F82-F8B7-4E8A-B19A-9426427290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- m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Spectr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1167" t="0" r="8306" b="0"/>
          <a:stretch/>
        </p:blipFill>
        <p:spPr>
          <a:xfrm>
            <a:off x="0" y="990720"/>
            <a:ext cx="5291280" cy="5638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rcRect l="0" t="7154" r="7952" b="0"/>
          <a:stretch/>
        </p:blipFill>
        <p:spPr>
          <a:xfrm>
            <a:off x="5257800" y="998640"/>
            <a:ext cx="3857760" cy="2430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2800" y="4038480"/>
            <a:ext cx="21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d-central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40-5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840" y="22096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ral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0-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160" y="563868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eripheral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60-92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07000" y="2658960"/>
            <a:ext cx="84240" cy="84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46880" y="2641680"/>
            <a:ext cx="84240" cy="83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257440" y="3733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 mass and centrality dep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ope paramet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istent with collectiv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low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56360" y="556272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HENIX:PRC accepte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ucl-ex/0307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9920" y="76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1F7-D5AF-4FD9-825F-563ED43D75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d charged hadron spectra at R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tra : Having the entire history of dynamical evolu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vs. particle mass, centr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ty dependence of spectra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ze-out temperature and expansion velo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identified charged hadr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tra in Au+Au collisions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00 GeV from PHEN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6ff"/>
                </a:solidFill>
                <a:latin typeface="Arial"/>
              </a:rPr>
              <a:t>PHENIX Collaboration S.S.Adler et al., accepted to PRC, nucl-ex/0307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e-out temperature and expansion velocity based on the hydro dynamical model (radial flow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1ED-197B-4E3E-B891-A0CAEED363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henix_tof_200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276720" cy="2670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69880" y="304920"/>
            <a:ext cx="79646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d Hadron PID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33920" y="1371600"/>
            <a:ext cx="5410080" cy="41259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960" y="350532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ors for hadron measu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H+PC1+TOF+B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8, -0.35 &l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ged Hadron PID by T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&l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3.0 GeV/c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&lt; K &lt; 2.0 GeV/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&lt; p &lt; 4.5 GeV/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09480" y="4724280"/>
                <a:ext cx="34290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»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%Å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´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eV/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7D3-5BEC-4E20-9180-23DEA9312B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ID 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Spectr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5926" r="6819" b="0"/>
          <a:stretch/>
        </p:blipFill>
        <p:spPr>
          <a:xfrm>
            <a:off x="0" y="1447920"/>
            <a:ext cx="6477120" cy="5016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05720" y="1219320"/>
            <a:ext cx="402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HENIX:PRC accepted, nucl-ex/0307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24480" y="1447560"/>
            <a:ext cx="2743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opes increase with particle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n and anti-proton yields equal the pion yield at high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6ff"/>
                </a:solidFill>
                <a:latin typeface="Arial"/>
              </a:rPr>
              <a:t>Periph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dependence is less pronou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p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405-81FC-4E2F-B77E-E253FB9C4A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7920" y="1095480"/>
            <a:ext cx="6118200" cy="4390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02240" y="4191120"/>
            <a:ext cx="25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. error from extrapolation x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02240" y="19051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. error from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4326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ean 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vs. N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par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5486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from peripheral to mid-central, and then saturate from mid-central to central for all particle 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clear mass 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ive radial expansion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consistent with hydro pic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45680" y="990720"/>
            <a:ext cx="402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HENIX:PRC accepted, nucl-ex/0307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9EE-07E8-48E3-ABCA-EF57135C6D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last-wave model Parameteriza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2666520"/>
            <a:ext cx="4038840" cy="16765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e-out tempera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4587840"/>
            <a:ext cx="4038840" cy="1366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ar velocity profi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velocit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velocity 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gt; = 2/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st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atanh(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2200" y="4495680"/>
            <a:ext cx="38124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ion vari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r/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te integral from 0 t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le density distribu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~ con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634080" y="3063960"/>
            <a:ext cx="1760400" cy="1409040"/>
            <a:chOff x="6634080" y="3063960"/>
            <a:chExt cx="1760400" cy="1409040"/>
          </a:xfrm>
        </p:grpSpPr>
        <p:sp>
          <p:nvSpPr>
            <p:cNvPr id="119" name=""/>
            <p:cNvSpPr/>
            <p:nvPr/>
          </p:nvSpPr>
          <p:spPr>
            <a:xfrm>
              <a:off x="6634080" y="3063960"/>
              <a:ext cx="75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7315200" y="3139920"/>
              <a:ext cx="1079280" cy="1333080"/>
              <a:chOff x="7315200" y="3139920"/>
              <a:chExt cx="1079280" cy="1333080"/>
            </a:xfrm>
          </p:grpSpPr>
          <p:sp>
            <p:nvSpPr>
              <p:cNvPr id="121" name=""/>
              <p:cNvSpPr/>
              <p:nvPr/>
            </p:nvSpPr>
            <p:spPr>
              <a:xfrm>
                <a:off x="7315200" y="31399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15200" y="405432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7315200" y="3444480"/>
                <a:ext cx="990360" cy="60948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62920" y="401328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4572720" y="3048120"/>
            <a:ext cx="2116800" cy="1389960"/>
            <a:chOff x="4572720" y="3048120"/>
            <a:chExt cx="2116800" cy="1389960"/>
          </a:xfrm>
        </p:grpSpPr>
        <p:sp>
          <p:nvSpPr>
            <p:cNvPr id="126" name=""/>
            <p:cNvSpPr/>
            <p:nvPr/>
          </p:nvSpPr>
          <p:spPr>
            <a:xfrm>
              <a:off x="5181480" y="3048120"/>
              <a:ext cx="0" cy="9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39625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32767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40480" y="39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720" y="31845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57960" y="3941640"/>
              <a:ext cx="3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67280" y="32925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210480" y="6095880"/>
            <a:ext cx="57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 :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llfrank, Schnedermann, Heinz, PRC48(1993) 246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039680" y="1447920"/>
                <a:ext cx="6912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d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dx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h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h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391-7A9B-4F4C-848C-5602A40391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odel fit with resonance feed dow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ribution for each particle species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mass, 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 and cre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tra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K,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 parameters :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cc99"/>
                </a:solidFill>
                <a:latin typeface="Arial"/>
              </a:rPr>
              <a:t>ch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= 177MeV, </a:t>
            </a: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00cc99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= 29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P.Braun-Munzinger et al,PLB518(2001)4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nitial particle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inclusiv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tra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3520" y="3429000"/>
          <a:ext cx="243828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243828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3520" y="5126040"/>
          <a:ext cx="243828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126040"/>
                    <a:ext cx="243828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210760" y="54864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10760" y="3733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562720"/>
            <a:ext cx="1752840" cy="761760"/>
          </a:xfrm>
          <a:prstGeom prst="rightArrow">
            <a:avLst>
              <a:gd name="adj1" fmla="val 50000"/>
              <a:gd name="adj2" fmla="val 575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809880"/>
            <a:ext cx="2590560" cy="609840"/>
          </a:xfrm>
          <a:custGeom>
            <a:avLst/>
            <a:gdLst>
              <a:gd name="textAreaLeft" fmla="*/ 404640 w 2590560"/>
              <a:gd name="textAreaRight" fmla="*/ 2266920 w 25905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5562720"/>
            <a:ext cx="1524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3657600"/>
            <a:ext cx="19051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8573600">
            <a:off x="5232240" y="4927680"/>
            <a:ext cx="1041120" cy="380880"/>
          </a:xfrm>
          <a:prstGeom prst="rightArrow">
            <a:avLst>
              <a:gd name="adj1" fmla="val 50000"/>
              <a:gd name="adj2" fmla="val 6833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4495680"/>
            <a:ext cx="15318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77MeV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29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4075200">
            <a:off x="6935760" y="4789440"/>
            <a:ext cx="1239840" cy="785520"/>
          </a:xfrm>
          <a:prstGeom prst="leftRightArrow">
            <a:avLst>
              <a:gd name="adj1" fmla="val 50000"/>
              <a:gd name="adj2" fmla="val 31421"/>
            </a:avLst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791320"/>
            <a:ext cx="14479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6CF-7B57-475B-9813-523172DBF7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clusive 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spectr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5790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inclusiv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tra for each particles, each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903400" y="1371600"/>
            <a:ext cx="6240600" cy="42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70040" y="4464000"/>
            <a:ext cx="2286000" cy="68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hanced by resonance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rot="5340600">
            <a:off x="3232800" y="3890880"/>
            <a:ext cx="924120" cy="1294200"/>
          </a:xfrm>
          <a:custGeom>
            <a:avLst/>
            <a:gdLst>
              <a:gd name="textAreaLeft" fmla="*/ -360 w 924120"/>
              <a:gd name="textAreaRight" fmla="*/ 924120 w 924120"/>
              <a:gd name="textAreaTop" fmla="*/ 0 h 1294200"/>
              <a:gd name="textAreaBottom" fmla="*/ 1294560 h 129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122" stAng="10800000" swAng="5400000"/>
                <a:lnTo>
                  <a:pt x="16564" y="5038"/>
                </a:lnTo>
                <a:lnTo>
                  <a:pt x="16564" y="0"/>
                </a:lnTo>
                <a:lnTo>
                  <a:pt x="21600" y="6079"/>
                </a:lnTo>
                <a:lnTo>
                  <a:pt x="16564" y="12158"/>
                </a:lnTo>
                <a:lnTo>
                  <a:pt x="16564" y="7120"/>
                </a:lnTo>
                <a:lnTo>
                  <a:pt x="12427" y="7120"/>
                </a:lnTo>
                <a:arcTo wR="10345" hR="5040" stAng="16200000" swAng="-5400000"/>
                <a:lnTo>
                  <a:pt x="2082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1600200"/>
            <a:ext cx="2743200" cy="203724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na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anti-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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ti-K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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ant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91E-1FE7-4173-9644-87F1D5D312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320" y="1008000"/>
            <a:ext cx="4674960" cy="2954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9320" y="3886200"/>
            <a:ext cx="4674960" cy="29541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1640" y="152352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contribution from har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m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 &lt;1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d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 at very low pT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p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0.5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taneous fit in me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60~240MeV ,4MeV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0.1~0.9, 0.02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33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itting the 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spectr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29360" y="1468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-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363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-9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C40-8F1A-4C74-AA88-82F2CACDEA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NP03 meeting @Tucson Nov. 1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07:40:30Z</dcterms:created>
  <dc:creator>Akio Kiyomichi</dc:creator>
  <dc:description/>
  <dc:language>en-US</dc:language>
  <cp:lastModifiedBy>Akio Kiyomichi</cp:lastModifiedBy>
  <cp:lastPrinted>2003-10-29T12:12:29Z</cp:lastPrinted>
  <dcterms:modified xsi:type="dcterms:W3CDTF">2003-11-04T15:33:16Z</dcterms:modified>
  <cp:revision>300</cp:revision>
  <dc:subject>Hadron PWG</dc:subject>
  <dc:title>PID Simulation</dc:title>
</cp:coreProperties>
</file>