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0.pct" ContentType="image/x-pict"/>
  <Override PartName="/ppt/media/image22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.png" ContentType="image/png"/>
  <Override PartName="/ppt/media/image24.png" ContentType="image/png"/>
  <Override PartName="/ppt/media/image2.pct" ContentType="image/x-pict"/>
  <Override PartName="/ppt/media/image16.pct" ContentType="image/x-pict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0275213" cy="42800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2573496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70160" y="25182000"/>
            <a:ext cx="2573496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70160" y="25182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15456960" y="25182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71360" y="9036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672560" y="9036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70160" y="25182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0971360" y="25182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9672560" y="25182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39A60-619F-470E-B89F-BC6CB514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70160" y="9036000"/>
            <a:ext cx="25734960" cy="309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4C6A3-D295-4E7C-BBA6-1A58B132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2573496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D3757-793B-47C1-8788-1AE5EAFB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371A1-5AB6-49F2-BABD-0E5CE5A0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7998D-6E97-4E6A-9C44-89A24A41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62160" y="3805200"/>
            <a:ext cx="27919440" cy="192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8FEBB-45EC-4435-A359-8E5EDED1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70160" y="25182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4718E-F34F-4DDD-8951-CF6D74FD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70160" y="9036000"/>
            <a:ext cx="25734960" cy="309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456960" y="25182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2D88A-4BA6-452C-A3D2-1CD1F1C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70160" y="25182000"/>
            <a:ext cx="2573496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FC269-229E-4558-B2B9-AF3DA27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2573496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70160" y="25182000"/>
            <a:ext cx="2573496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0C048-138F-4035-88A9-2E128C82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70160" y="25182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456960" y="25182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D9FF3-41F4-43F0-9FCC-55A1D693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971360" y="9036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672560" y="9036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70160" y="25182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0971360" y="25182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9672560" y="25182000"/>
            <a:ext cx="828648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A09A0-56F1-4F84-944C-270E4295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2573496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62160" y="3805200"/>
            <a:ext cx="27919440" cy="192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70160" y="25182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456960" y="25182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701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456960" y="9036000"/>
            <a:ext cx="1255860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70160" y="25182000"/>
            <a:ext cx="25734960" cy="14744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175280"/>
                <a:tab algn="l" pos="83502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2160" y="3805200"/>
            <a:ext cx="27919440" cy="4160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1" lang="en-US" sz="16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0160" y="9036000"/>
            <a:ext cx="25734960" cy="30911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3392640" indent="-130500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5219640" indent="-104436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7307280" indent="-104292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9394920" indent="-104292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9394920" indent="-104292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9394920" indent="-104292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3469120" y="41649480"/>
            <a:ext cx="6805800" cy="1151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b">
            <a:noAutofit/>
          </a:bodyPr>
          <a:lstStyle>
            <a:lvl1pPr indent="0" algn="ctr">
              <a:spcBef>
                <a:spcPts val="2999"/>
              </a:spcBef>
              <a:buNone/>
              <a:tabLst>
                <a:tab algn="l" pos="0"/>
                <a:tab algn="l" pos="4175280"/>
                <a:tab algn="l" pos="8350200"/>
              </a:tabLst>
              <a:defRPr b="1" i="1" lang="en-US" sz="48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1" i="1" lang="en-US" sz="48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41700600"/>
            <a:ext cx="12445920" cy="11001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b">
            <a:noAutofit/>
          </a:bodyPr>
          <a:lstStyle>
            <a:lvl1pPr indent="0">
              <a:spcBef>
                <a:spcPts val="3438"/>
              </a:spcBef>
              <a:buNone/>
              <a:tabLst>
                <a:tab algn="l" pos="0"/>
                <a:tab algn="l" pos="4175280"/>
                <a:tab algn="l" pos="8350200"/>
              </a:tabLst>
              <a:defRPr b="1" i="1" lang="en-US" sz="55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spcBef>
                <a:spcPts val="3438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1" i="1" lang="en-US" sz="55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6720" y="5707080"/>
            <a:ext cx="28760760" cy="16644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1" lang="en-US" sz="16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16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2354040" y="38877480"/>
            <a:ext cx="6391080" cy="3210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>
              <a:spcBef>
                <a:spcPts val="4000"/>
              </a:spcBef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4000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10427760" y="38877480"/>
            <a:ext cx="9418680" cy="3210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ctr">
              <a:spcBef>
                <a:spcPts val="4000"/>
              </a:spcBef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21866400" y="38877480"/>
            <a:ext cx="6054480" cy="3210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spcBef>
                <a:spcPts val="4000"/>
              </a:spcBef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4000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fld id="{228C6A94-A8E1-4028-A8EF-2CE133B8FA60}" type="slidenum"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27680" cy="444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ct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ct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19050120"/>
            <a:ext cx="14730480" cy="21564360"/>
          </a:xfrm>
          <a:custGeom>
            <a:avLst/>
            <a:gdLst>
              <a:gd name="textAreaLeft" fmla="*/ 276120 w 14730480"/>
              <a:gd name="textAreaRight" fmla="*/ 14454360 w 14730480"/>
              <a:gd name="textAreaTop" fmla="*/ 276120 h 21564360"/>
              <a:gd name="textAreaBottom" fmla="*/ 21288240 h 21564360"/>
            </a:gdLst>
            <a:ahLst/>
            <a:rect l="textAreaLeft" t="textAreaTop" r="textAreaRight" b="textAreaBottom"/>
            <a:pathLst>
              <a:path w="21600" h="31621">
                <a:moveTo>
                  <a:pt x="1383" y="0"/>
                </a:moveTo>
                <a:arcTo wR="1383" hR="1383" stAng="16200000" swAng="-5400000"/>
                <a:lnTo>
                  <a:pt x="0" y="30238"/>
                </a:lnTo>
                <a:arcTo wR="1383" hR="1383" stAng="10800000" swAng="-5400000"/>
                <a:lnTo>
                  <a:pt x="20217" y="31621"/>
                </a:lnTo>
                <a:arcTo wR="1383" hR="1383" stAng="5400000" swAng="-5400000"/>
                <a:lnTo>
                  <a:pt x="21600" y="1383"/>
                </a:lnTo>
                <a:arcTo wR="1383" hR="1383" stAng="0" swAng="-5400000"/>
                <a:close/>
              </a:path>
            </a:pathLst>
          </a:custGeom>
          <a:solidFill>
            <a:srgbClr val="99ccff"/>
          </a:solidFill>
          <a:ln w="76320">
            <a:solidFill>
              <a:srgbClr val="008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8001000"/>
            <a:ext cx="28041480" cy="10363320"/>
          </a:xfrm>
          <a:prstGeom prst="roundRect">
            <a:avLst>
              <a:gd name="adj" fmla="val 6403"/>
            </a:avLst>
          </a:pr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92520" y="19050120"/>
            <a:ext cx="14706360" cy="21564360"/>
          </a:xfrm>
          <a:custGeom>
            <a:avLst/>
            <a:gdLst>
              <a:gd name="textAreaLeft" fmla="*/ 275760 w 14706360"/>
              <a:gd name="textAreaRight" fmla="*/ 14430600 w 14706360"/>
              <a:gd name="textAreaTop" fmla="*/ 275760 h 21564360"/>
              <a:gd name="textAreaBottom" fmla="*/ 21288600 h 21564360"/>
            </a:gdLst>
            <a:ahLst/>
            <a:rect l="textAreaLeft" t="textAreaTop" r="textAreaRight" b="textAreaBottom"/>
            <a:pathLst>
              <a:path w="21600" h="31672">
                <a:moveTo>
                  <a:pt x="1383" y="0"/>
                </a:moveTo>
                <a:arcTo wR="1383" hR="1383" stAng="16200000" swAng="-5400000"/>
                <a:lnTo>
                  <a:pt x="0" y="30289"/>
                </a:lnTo>
                <a:arcTo wR="1383" hR="1383" stAng="10800000" swAng="-5400000"/>
                <a:lnTo>
                  <a:pt x="20217" y="31672"/>
                </a:lnTo>
                <a:arcTo wR="1383" hR="1383" stAng="5400000" swAng="-5400000"/>
                <a:lnTo>
                  <a:pt x="21600" y="1383"/>
                </a:lnTo>
                <a:arcTo wR="1383" hR="1383" stAng="0" swAng="-5400000"/>
                <a:close/>
              </a:path>
            </a:pathLst>
          </a:custGeom>
          <a:solidFill>
            <a:srgbClr val="cc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48720" y="40863960"/>
            <a:ext cx="5484600" cy="192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869280" y="40681440"/>
            <a:ext cx="1903680" cy="211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6459200" y="1295280"/>
            <a:ext cx="4329000" cy="1082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30600" y="100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19659600"/>
            <a:ext cx="7067520" cy="479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088800" y="2514600"/>
            <a:ext cx="8958960" cy="2928600"/>
          </a:xfrm>
          <a:prstGeom prst="rect">
            <a:avLst/>
          </a:prstGeom>
          <a:noFill/>
          <a:ln w="76320">
            <a:solidFill>
              <a:srgbClr val="008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kio Kiyomichi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RIKEN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 the PHENIX Collabo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E-mail: kiyo@riken.go.j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http://www.phenix.bnl.gov/~kiyo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6992720" y="32689800"/>
            <a:ext cx="5232240" cy="3989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rcRect l="0" t="5926" r="6799" b="0"/>
          <a:stretch/>
        </p:blipFill>
        <p:spPr>
          <a:xfrm>
            <a:off x="16192440" y="20878920"/>
            <a:ext cx="7132680" cy="552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6154280" y="26530200"/>
            <a:ext cx="7201080" cy="516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1600200" y="10604520"/>
            <a:ext cx="5398920" cy="5180040"/>
          </a:xfrm>
          <a:prstGeom prst="rect">
            <a:avLst/>
          </a:prstGeom>
          <a:ln w="152280">
            <a:solidFill>
              <a:srgbClr val="ff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152280" y="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27584280" y="0"/>
            <a:ext cx="25146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3088600" y="32918400"/>
            <a:ext cx="6858000" cy="7513560"/>
            <a:chOff x="23088600" y="32918400"/>
            <a:chExt cx="6858000" cy="7513560"/>
          </a:xfrm>
        </p:grpSpPr>
        <p:pic>
          <p:nvPicPr>
            <p:cNvPr id="97" name="East_Carriage_South_Small" descr=""/>
            <p:cNvPicPr/>
            <p:nvPr/>
          </p:nvPicPr>
          <p:blipFill>
            <a:blip r:embed="rId11"/>
            <a:stretch/>
          </p:blipFill>
          <p:spPr>
            <a:xfrm>
              <a:off x="27222480" y="32996160"/>
              <a:ext cx="2724120" cy="58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3Magnets_Small" descr=""/>
            <p:cNvPicPr/>
            <p:nvPr/>
          </p:nvPicPr>
          <p:blipFill>
            <a:blip r:embed="rId12"/>
            <a:stretch/>
          </p:blipFill>
          <p:spPr>
            <a:xfrm>
              <a:off x="23088600" y="34801200"/>
              <a:ext cx="404352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8173240" y="33712200"/>
              <a:ext cx="17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AST 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554880" y="36747360"/>
              <a:ext cx="25718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ENTRAL MAG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 MUON 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980100e1" descr=""/>
            <p:cNvPicPr/>
            <p:nvPr/>
          </p:nvPicPr>
          <p:blipFill>
            <a:blip r:embed="rId13"/>
            <a:stretch/>
          </p:blipFill>
          <p:spPr>
            <a:xfrm>
              <a:off x="23698440" y="32918400"/>
              <a:ext cx="2090520" cy="1755720"/>
            </a:xfrm>
            <a:prstGeom prst="rect">
              <a:avLst/>
            </a:prstGeom>
            <a:ln w="38160">
              <a:solidFill>
                <a:srgbClr val="00ffff"/>
              </a:solidFill>
              <a:miter/>
            </a:ln>
          </p:spPr>
        </p:pic>
        <p:sp>
          <p:nvSpPr>
            <p:cNvPr id="102" name=""/>
            <p:cNvSpPr/>
            <p:nvPr/>
          </p:nvSpPr>
          <p:spPr>
            <a:xfrm rot="10800000">
              <a:off x="26776440" y="35531280"/>
              <a:ext cx="782640" cy="836640"/>
            </a:xfrm>
            <a:custGeom>
              <a:avLst/>
              <a:gdLst>
                <a:gd name="textAreaLeft" fmla="*/ 122040 w 782640"/>
                <a:gd name="textAreaRight" fmla="*/ 630720 w 782640"/>
                <a:gd name="textAreaTop" fmla="*/ 183960 h 836640"/>
                <a:gd name="textAreaBottom" fmla="*/ 652680 h 8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754"/>
                  </a:moveTo>
                  <a:lnTo>
                    <a:pt x="14106" y="4754"/>
                  </a:lnTo>
                  <a:lnTo>
                    <a:pt x="14106" y="0"/>
                  </a:lnTo>
                  <a:lnTo>
                    <a:pt x="21600" y="10800"/>
                  </a:lnTo>
                  <a:lnTo>
                    <a:pt x="14106" y="21600"/>
                  </a:lnTo>
                  <a:lnTo>
                    <a:pt x="14106" y="16846"/>
                  </a:lnTo>
                  <a:lnTo>
                    <a:pt x="3375" y="16846"/>
                  </a:lnTo>
                  <a:close/>
                </a:path>
                <a:path w="21600" h="21600">
                  <a:moveTo>
                    <a:pt x="0" y="4754"/>
                  </a:moveTo>
                  <a:lnTo>
                    <a:pt x="675" y="4754"/>
                  </a:lnTo>
                  <a:lnTo>
                    <a:pt x="675" y="16846"/>
                  </a:lnTo>
                  <a:lnTo>
                    <a:pt x="0" y="16846"/>
                  </a:lnTo>
                  <a:close/>
                </a:path>
                <a:path w="21600" h="21600">
                  <a:moveTo>
                    <a:pt x="1350" y="4754"/>
                  </a:moveTo>
                  <a:lnTo>
                    <a:pt x="2700" y="4754"/>
                  </a:lnTo>
                  <a:lnTo>
                    <a:pt x="2700" y="16846"/>
                  </a:lnTo>
                  <a:lnTo>
                    <a:pt x="1350" y="16846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4"/>
            <a:stretch/>
          </p:blipFill>
          <p:spPr>
            <a:xfrm>
              <a:off x="23664960" y="37544400"/>
              <a:ext cx="2782800" cy="1952640"/>
            </a:xfrm>
            <a:prstGeom prst="rect">
              <a:avLst/>
            </a:prstGeom>
            <a:ln w="38160">
              <a:solidFill>
                <a:srgbClr val="ff9900"/>
              </a:solidFill>
              <a:miter/>
            </a:ln>
          </p:spPr>
        </p:pic>
        <p:pic>
          <p:nvPicPr>
            <p:cNvPr id="104" name="tof_best1" descr=""/>
            <p:cNvPicPr/>
            <p:nvPr/>
          </p:nvPicPr>
          <p:blipFill>
            <a:blip r:embed="rId15"/>
            <a:srcRect l="8000" t="18000" r="4000" b="8002"/>
            <a:stretch/>
          </p:blipFill>
          <p:spPr>
            <a:xfrm>
              <a:off x="26701920" y="37628280"/>
              <a:ext cx="2500200" cy="2803680"/>
            </a:xfrm>
            <a:prstGeom prst="rect">
              <a:avLst/>
            </a:prstGeom>
            <a:ln w="38160">
              <a:solidFill>
                <a:srgbClr val="00ff00"/>
              </a:solidFill>
              <a:miter/>
            </a:ln>
          </p:spPr>
        </p:pic>
        <p:sp>
          <p:nvSpPr>
            <p:cNvPr id="105" name=""/>
            <p:cNvSpPr/>
            <p:nvPr/>
          </p:nvSpPr>
          <p:spPr>
            <a:xfrm flipV="1">
              <a:off x="27900360" y="35662680"/>
              <a:ext cx="1544760" cy="19652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6468640" y="36372240"/>
              <a:ext cx="1358640" cy="11588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612840" y="34670880"/>
              <a:ext cx="372960" cy="1419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12840" y="34670880"/>
              <a:ext cx="847440" cy="14493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712120" y="3426444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720" y="3756348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C+P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215640" y="393015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038480" y="24536520"/>
            <a:ext cx="1981440" cy="9144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194560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658600" y="19431000"/>
            <a:ext cx="2438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sive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9266000">
            <a:off x="8061480" y="24491520"/>
            <a:ext cx="1419120" cy="746280"/>
          </a:xfrm>
          <a:prstGeom prst="rightArrow">
            <a:avLst>
              <a:gd name="adj1" fmla="val 39861"/>
              <a:gd name="adj2" fmla="val 897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1593400">
            <a:off x="13943160" y="21864240"/>
            <a:ext cx="2361960" cy="1681200"/>
          </a:xfrm>
          <a:prstGeom prst="leftRightArrow">
            <a:avLst>
              <a:gd name="adj1" fmla="val 54602"/>
              <a:gd name="adj2" fmla="val 28027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13184280" y="40679640"/>
            <a:ext cx="8686800" cy="2121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31640" y="18745200"/>
            <a:ext cx="982980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8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ydro-dynamical model with reso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35760" y="24536520"/>
            <a:ext cx="22860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ughte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7508320"/>
            <a:ext cx="13944600" cy="436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8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resonance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ribution determin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ach combinations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f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y them and obtai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tra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K,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 abundance calculated with chem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= 177MeV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= 29M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f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.Braun-Munzinger et al,PLB518(2001)4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 and create inclusiv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tra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55440" y="9677520"/>
            <a:ext cx="8279640" cy="7182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Centrality dependence of </a:t>
            </a:r>
            <a:r>
              <a:rPr b="1" i="1" lang="en-US" sz="3600" spc="-1" strike="noStrike">
                <a:solidFill>
                  <a:srgbClr val="0006ff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6ff"/>
                </a:solidFill>
                <a:latin typeface="Times New Roman"/>
              </a:rPr>
              <a:t>fo</a:t>
            </a: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 and &lt;</a:t>
            </a:r>
            <a:r>
              <a:rPr b="1" i="1" lang="en-US" sz="3600" spc="-1" strike="noStrike">
                <a:solidFill>
                  <a:srgbClr val="0006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6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291440" y="17589600"/>
            <a:ext cx="10004760" cy="7182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Contour plot of </a:t>
            </a:r>
            <a:r>
              <a:rPr b="1" i="1" lang="en-US" sz="3600" spc="-1" strike="noStrike">
                <a:solidFill>
                  <a:srgbClr val="0006ff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6ff"/>
                </a:solidFill>
                <a:latin typeface="Times New Roman"/>
              </a:rPr>
              <a:t>fo</a:t>
            </a: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 vs. &lt;</a:t>
            </a:r>
            <a:r>
              <a:rPr b="1" i="1" lang="en-US" sz="3600" spc="-1" strike="noStrike">
                <a:solidFill>
                  <a:srgbClr val="0006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6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&gt; for each cen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4560" y="25908120"/>
            <a:ext cx="5208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inclus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articles, each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20193120"/>
            <a:ext cx="3533760" cy="2508120"/>
            <a:chOff x="457200" y="20193120"/>
            <a:chExt cx="3533760" cy="250812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>
              <a:off x="457200" y="20193120"/>
              <a:ext cx="3533760" cy="25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972880" y="204980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52800" y="20193120"/>
              <a:ext cx="1523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200" y="22853520"/>
            <a:ext cx="3533760" cy="2508120"/>
            <a:chOff x="457200" y="22853520"/>
            <a:chExt cx="3533760" cy="2508120"/>
          </a:xfrm>
        </p:grpSpPr>
        <p:pic>
          <p:nvPicPr>
            <p:cNvPr id="129" name="" descr=""/>
            <p:cNvPicPr/>
            <p:nvPr/>
          </p:nvPicPr>
          <p:blipFill>
            <a:blip r:embed="rId18"/>
            <a:stretch/>
          </p:blipFill>
          <p:spPr>
            <a:xfrm>
              <a:off x="457200" y="22853520"/>
              <a:ext cx="3533760" cy="25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972880" y="2300580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52800" y="22859640"/>
              <a:ext cx="1523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14400" y="7620120"/>
            <a:ext cx="2666880" cy="838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13264920" y="19812960"/>
            <a:ext cx="3729240" cy="982800"/>
          </a:xfrm>
          <a:custGeom>
            <a:avLst/>
            <a:gdLst>
              <a:gd name="textAreaLeft" fmla="*/ 582480 w 3729240"/>
              <a:gd name="textAreaRight" fmla="*/ 3523320 w 3729240"/>
              <a:gd name="textAreaTop" fmla="*/ 311040 h 982800"/>
              <a:gd name="textAreaBottom" fmla="*/ 671760 h 982800"/>
            </a:gdLst>
            <a:ahLst/>
            <a:rect l="textAreaLeft" t="textAreaTop" r="textAreaRight" b="textAreaBottom"/>
            <a:pathLst>
              <a:path w="21600" h="21600">
                <a:moveTo>
                  <a:pt x="3375" y="6839"/>
                </a:moveTo>
                <a:lnTo>
                  <a:pt x="18344" y="6839"/>
                </a:lnTo>
                <a:lnTo>
                  <a:pt x="18344" y="0"/>
                </a:lnTo>
                <a:lnTo>
                  <a:pt x="21600" y="10800"/>
                </a:lnTo>
                <a:lnTo>
                  <a:pt x="18344" y="21600"/>
                </a:lnTo>
                <a:lnTo>
                  <a:pt x="18344" y="14761"/>
                </a:lnTo>
                <a:lnTo>
                  <a:pt x="3375" y="14761"/>
                </a:lnTo>
                <a:close/>
              </a:path>
              <a:path w="21600" h="21600">
                <a:moveTo>
                  <a:pt x="0" y="6839"/>
                </a:moveTo>
                <a:lnTo>
                  <a:pt x="675" y="6839"/>
                </a:lnTo>
                <a:lnTo>
                  <a:pt x="675" y="14761"/>
                </a:lnTo>
                <a:lnTo>
                  <a:pt x="0" y="14761"/>
                </a:lnTo>
                <a:close/>
              </a:path>
              <a:path w="21600" h="21600">
                <a:moveTo>
                  <a:pt x="1350" y="6839"/>
                </a:moveTo>
                <a:lnTo>
                  <a:pt x="2700" y="6839"/>
                </a:lnTo>
                <a:lnTo>
                  <a:pt x="2700" y="14761"/>
                </a:lnTo>
                <a:lnTo>
                  <a:pt x="1350" y="1476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2262840"/>
            <a:ext cx="13944600" cy="7970760"/>
          </a:xfrm>
          <a:prstGeom prst="rect">
            <a:avLst/>
          </a:prstGeom>
          <a:solidFill>
            <a:srgbClr val="cccc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1805640"/>
            <a:ext cx="10134720" cy="914400"/>
          </a:xfrm>
          <a:prstGeom prst="rect">
            <a:avLst/>
          </a:prstGeom>
          <a:solidFill>
            <a:srgbClr val="cccc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ast-wave model paramete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5966520"/>
            <a:ext cx="5334120" cy="21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518120" indent="-151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ansion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8120" indent="-151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izatio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8120" indent="-151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eeze-out temperatur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8120" indent="-151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rface velocit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90920" y="32872320"/>
                <a:ext cx="96328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r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9067680" y="36423720"/>
            <a:ext cx="4953240" cy="137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e integral from 0 to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 density distrib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~ 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782040" y="36401400"/>
            <a:ext cx="1977120" cy="1558800"/>
            <a:chOff x="6782040" y="36401400"/>
            <a:chExt cx="1977120" cy="1558800"/>
          </a:xfrm>
        </p:grpSpPr>
        <p:sp>
          <p:nvSpPr>
            <p:cNvPr id="140" name=""/>
            <p:cNvSpPr/>
            <p:nvPr/>
          </p:nvSpPr>
          <p:spPr>
            <a:xfrm>
              <a:off x="7543440" y="36880560"/>
              <a:ext cx="609840" cy="609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43440" y="36576000"/>
              <a:ext cx="0" cy="92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440" y="374904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3440" y="3688056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26480" y="37428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82040" y="36401400"/>
              <a:ext cx="7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r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59640" y="374396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53280" y="36880560"/>
              <a:ext cx="0" cy="62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859480" y="34822440"/>
            <a:ext cx="91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Sollfrank,Schnedermann,Heinz,PRC48(1993)246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59640" y="34366320"/>
            <a:ext cx="441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odified Besse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635880" y="38142720"/>
            <a:ext cx="2047320" cy="1550880"/>
            <a:chOff x="6635880" y="38142720"/>
            <a:chExt cx="2047320" cy="1550880"/>
          </a:xfrm>
        </p:grpSpPr>
        <p:sp>
          <p:nvSpPr>
            <p:cNvPr id="151" name=""/>
            <p:cNvSpPr/>
            <p:nvPr/>
          </p:nvSpPr>
          <p:spPr>
            <a:xfrm>
              <a:off x="6635880" y="38142720"/>
              <a:ext cx="902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r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543800" y="38613960"/>
              <a:ext cx="990720" cy="6094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3680" y="391730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3800" y="383094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3800" y="392238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440360" y="35310600"/>
            <a:ext cx="117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near flow rapidity pro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particle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90920" y="34243920"/>
                <a:ext cx="3797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9067680" y="38099880"/>
            <a:ext cx="4953240" cy="1582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profi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• r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velocity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/3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.Esumi,S.Chapman,H.van Hecke,and N.X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Phys.Rev.C 55, R2163 (1997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473880" y="37080720"/>
            <a:ext cx="39326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dron measu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H+PC1+TOF+B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8, -0.35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le ID by 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0.2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3.0 GeV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0.4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.0 GeV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0.6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4.5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97080" y="31927680"/>
            <a:ext cx="12268440" cy="838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ENIX Detectors for Charged Hadron 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henix_tof_2002" descr=""/>
          <p:cNvPicPr/>
          <p:nvPr/>
        </p:nvPicPr>
        <p:blipFill>
          <a:blip r:embed="rId19"/>
          <a:stretch/>
        </p:blipFill>
        <p:spPr>
          <a:xfrm>
            <a:off x="19278720" y="36880920"/>
            <a:ext cx="4322520" cy="3524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3397480" y="26679600"/>
            <a:ext cx="4838040" cy="7182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Mean </a:t>
            </a:r>
            <a:r>
              <a:rPr b="1" i="1" lang="en-US" sz="3600" spc="-1" strike="noStrike">
                <a:solidFill>
                  <a:srgbClr val="0006ff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6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 vs. cen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61120" y="21027960"/>
            <a:ext cx="3314160" cy="7182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PID </a:t>
            </a:r>
            <a:r>
              <a:rPr b="1" i="1" lang="en-US" sz="3600" spc="-1" strike="noStrike">
                <a:solidFill>
                  <a:srgbClr val="0006ff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6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6ff"/>
                </a:solidFill>
                <a:latin typeface="Arial"/>
              </a:rPr>
              <a:t> Spect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255280" y="27597240"/>
            <a:ext cx="6805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from peripheral to mid-central, and then saturate from mid-central to central for all particle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clear mass depen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ive radial expansion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consistent with hydro pic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79040" y="217933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opes increase with particl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 and anti-proton yields equal the pion yield at hi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6ff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dependence is less pronou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57760" y="20100960"/>
            <a:ext cx="111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</a:rPr>
              <a:t>PHENIX: PRC accepted,nucl-ex/03070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29946600" cy="2514600"/>
          </a:xfrm>
          <a:prstGeom prst="rect">
            <a:avLst/>
          </a:prstGeom>
          <a:noFill/>
          <a:ln w="76320">
            <a:solidFill>
              <a:srgbClr val="008100"/>
            </a:solidFill>
            <a:miter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1" lang="en-US" sz="8000" spc="-1" strike="noStrike">
                <a:solidFill>
                  <a:srgbClr val="0006ff"/>
                </a:solidFill>
                <a:latin typeface="Arial"/>
              </a:rPr>
              <a:t>Radial Flow Study from Identified Hadron Spectra </a:t>
            </a:r>
            <a:br>
              <a:rPr sz="8000"/>
            </a:br>
            <a:r>
              <a:rPr b="1" lang="en-US" sz="8000" spc="-1" strike="noStrike">
                <a:solidFill>
                  <a:srgbClr val="0006ff"/>
                </a:solidFill>
                <a:latin typeface="Arial"/>
              </a:rPr>
              <a:t>in Au+Au collisions at                   200GeV</a:t>
            </a:r>
            <a:endParaRPr b="1" lang="en-US" sz="8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524880" y="27889200"/>
            <a:ext cx="4876920" cy="40352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8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n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, anti-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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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*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*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ti-K*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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ant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6154280"/>
            <a:ext cx="1158264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ting reg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contribution from hard process.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&lt; 1GeV/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&lt; 1.2GeV/c, K : &lt; 1.4GeV/c, p : &lt; 1.7GeV/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 large resonance for pion at very l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0.5GeV/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697080" y="18745200"/>
            <a:ext cx="1409724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0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erimental data: Identified charged hadron 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pect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Au+Au collisions at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200 GeV from PHE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40080" y="14935320"/>
            <a:ext cx="6172200" cy="1669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fit in m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f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60~240MeV, 4MeV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0.0~0.9c, 0.02c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10596600"/>
            <a:ext cx="8686800" cy="2599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dependence of expansion is ob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@central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atu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@peripheral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0 :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fo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increase,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38280" y="38039400"/>
            <a:ext cx="3299400" cy="2150280"/>
            <a:chOff x="2438280" y="38039400"/>
            <a:chExt cx="3299400" cy="2150280"/>
          </a:xfrm>
        </p:grpSpPr>
        <p:sp>
          <p:nvSpPr>
            <p:cNvPr id="174" name=""/>
            <p:cNvSpPr/>
            <p:nvPr/>
          </p:nvSpPr>
          <p:spPr>
            <a:xfrm>
              <a:off x="2990880" y="3822876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0880" y="39981240"/>
              <a:ext cx="220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63680" y="38484360"/>
              <a:ext cx="1359000" cy="118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7360" y="38457360"/>
              <a:ext cx="412920" cy="762120"/>
            </a:xfrm>
            <a:prstGeom prst="upDownArrow">
              <a:avLst>
                <a:gd name="adj1" fmla="val 50000"/>
                <a:gd name="adj2" fmla="val 3674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11000" y="3967956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1794960" y="38682360"/>
              <a:ext cx="179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/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N/d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700000">
              <a:off x="4105080" y="39023640"/>
              <a:ext cx="442800" cy="1030320"/>
            </a:xfrm>
            <a:prstGeom prst="upDownArrow">
              <a:avLst>
                <a:gd name="adj1" fmla="val 50000"/>
                <a:gd name="adj2" fmla="val 46321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62440" y="38624040"/>
              <a:ext cx="1033200" cy="442800"/>
            </a:xfrm>
            <a:prstGeom prst="leftRightArrow">
              <a:avLst>
                <a:gd name="adj1" fmla="val 50000"/>
                <a:gd name="adj2" fmla="val 464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91080" y="3937176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78520" y="3920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8600" y="38566800"/>
              <a:ext cx="5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2957600">
            <a:off x="8594280" y="25342920"/>
            <a:ext cx="1371600" cy="457200"/>
          </a:xfrm>
          <a:custGeom>
            <a:avLst/>
            <a:gdLst>
              <a:gd name="textAreaLeft" fmla="*/ 214200 w 1371600"/>
              <a:gd name="textAreaRight" fmla="*/ 1208160 w 1371600"/>
              <a:gd name="textAreaTop" fmla="*/ 125280 h 457200"/>
              <a:gd name="textAreaBottom" fmla="*/ 3319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931"/>
                </a:moveTo>
                <a:lnTo>
                  <a:pt x="15884" y="5931"/>
                </a:lnTo>
                <a:lnTo>
                  <a:pt x="15884" y="0"/>
                </a:lnTo>
                <a:lnTo>
                  <a:pt x="21600" y="10800"/>
                </a:lnTo>
                <a:lnTo>
                  <a:pt x="15884" y="21600"/>
                </a:lnTo>
                <a:lnTo>
                  <a:pt x="15884" y="15669"/>
                </a:lnTo>
                <a:lnTo>
                  <a:pt x="3375" y="15669"/>
                </a:lnTo>
                <a:close/>
              </a:path>
              <a:path w="21600" h="21600">
                <a:moveTo>
                  <a:pt x="0" y="5931"/>
                </a:moveTo>
                <a:lnTo>
                  <a:pt x="675" y="5931"/>
                </a:lnTo>
                <a:lnTo>
                  <a:pt x="675" y="15669"/>
                </a:lnTo>
                <a:lnTo>
                  <a:pt x="0" y="15669"/>
                </a:lnTo>
                <a:close/>
              </a:path>
              <a:path w="21600" h="21600">
                <a:moveTo>
                  <a:pt x="1350" y="5931"/>
                </a:moveTo>
                <a:lnTo>
                  <a:pt x="2700" y="5931"/>
                </a:lnTo>
                <a:lnTo>
                  <a:pt x="2700" y="15669"/>
                </a:lnTo>
                <a:lnTo>
                  <a:pt x="1350" y="156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829800" y="24568200"/>
            <a:ext cx="4648320" cy="271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parame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77MeV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9M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magestro" descr=""/>
          <p:cNvPicPr/>
          <p:nvPr/>
        </p:nvPicPr>
        <p:blipFill>
          <a:blip r:embed="rId20"/>
          <a:stretch/>
        </p:blipFill>
        <p:spPr>
          <a:xfrm>
            <a:off x="9921960" y="25507800"/>
            <a:ext cx="4479840" cy="173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76520" y="2666880"/>
            <a:ext cx="18821160" cy="4846320"/>
          </a:xfrm>
          <a:prstGeom prst="rect">
            <a:avLst/>
          </a:prstGeom>
          <a:noFill/>
          <a:ln w="1522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y of Hydro-dynamical Collective Expansion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Identified charged hadron spectra and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tra vs. centr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s. centr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8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100"/>
                </a:solidFill>
                <a:uFillTx/>
                <a:latin typeface="Arial"/>
              </a:rPr>
              <a:t>Hydro-dynamical model 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l flow velocity </a:t>
            </a: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thermal freeze-out temperature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f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dro-dynamical model with resonance decay eff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69000" y="8686800"/>
            <a:ext cx="16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ydro-dynamical model fit to the spectra with resonance decay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801600" y="4114800"/>
            <a:ext cx="16916400" cy="14630400"/>
          </a:xfrm>
          <a:custGeom>
            <a:avLst/>
            <a:gdLst/>
            <a:ahLst/>
            <a:rect l="l" t="t" r="r" b="b"/>
            <a:pathLst>
              <a:path w="12528" h="9408">
                <a:moveTo>
                  <a:pt x="0" y="0"/>
                </a:moveTo>
                <a:lnTo>
                  <a:pt x="12528" y="2352"/>
                </a:lnTo>
                <a:lnTo>
                  <a:pt x="12528" y="9408"/>
                </a:lnTo>
              </a:path>
            </a:pathLst>
          </a:custGeom>
          <a:noFill/>
          <a:ln w="304920">
            <a:solidFill>
              <a:srgbClr val="0006ff">
                <a:alpha val="70000"/>
              </a:srgbClr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5943600"/>
            <a:ext cx="1828800" cy="12801600"/>
          </a:xfrm>
          <a:custGeom>
            <a:avLst/>
            <a:gdLst/>
            <a:ahLst/>
            <a:rect l="l" t="t" r="r" b="b"/>
            <a:pathLst>
              <a:path w="1296" h="8352">
                <a:moveTo>
                  <a:pt x="1296" y="0"/>
                </a:moveTo>
                <a:lnTo>
                  <a:pt x="0" y="384"/>
                </a:lnTo>
                <a:lnTo>
                  <a:pt x="0" y="8352"/>
                </a:lnTo>
              </a:path>
            </a:pathLst>
          </a:custGeom>
          <a:noFill/>
          <a:ln w="304920">
            <a:solidFill>
              <a:srgbClr val="008100">
                <a:alpha val="70000"/>
              </a:srgbClr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13487400"/>
            <a:ext cx="8686800" cy="244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most centr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reeze-out temperatur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fo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100M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verage flow velocity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&lt;</a:t>
            </a:r>
            <a:r>
              <a:rPr b="1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0.5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urface flow velocit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0.76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&gt; = 2/3 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306920" y="8153280"/>
            <a:ext cx="12725280" cy="9207720"/>
            <a:chOff x="16306920" y="8153280"/>
            <a:chExt cx="12725280" cy="9207720"/>
          </a:xfrm>
        </p:grpSpPr>
        <p:pic>
          <p:nvPicPr>
            <p:cNvPr id="194" name="" descr=""/>
            <p:cNvPicPr/>
            <p:nvPr/>
          </p:nvPicPr>
          <p:blipFill>
            <a:blip r:embed="rId21"/>
            <a:stretch/>
          </p:blipFill>
          <p:spPr>
            <a:xfrm>
              <a:off x="16306920" y="12192120"/>
              <a:ext cx="7197480" cy="5168880"/>
            </a:xfrm>
            <a:prstGeom prst="rect">
              <a:avLst/>
            </a:prstGeom>
            <a:ln w="152280">
              <a:solidFill>
                <a:srgbClr val="ff0000"/>
              </a:solidFill>
              <a:miter/>
            </a:ln>
          </p:spPr>
        </p:pic>
        <p:pic>
          <p:nvPicPr>
            <p:cNvPr id="195" name="" descr=""/>
            <p:cNvPicPr/>
            <p:nvPr/>
          </p:nvPicPr>
          <p:blipFill>
            <a:blip r:embed="rId22"/>
            <a:stretch/>
          </p:blipFill>
          <p:spPr>
            <a:xfrm>
              <a:off x="23979240" y="13665240"/>
              <a:ext cx="5052960" cy="3632040"/>
            </a:xfrm>
            <a:prstGeom prst="rect">
              <a:avLst/>
            </a:prstGeom>
            <a:ln w="38160">
              <a:solidFill>
                <a:srgbClr val="008100"/>
              </a:solidFill>
              <a:miter/>
            </a:ln>
          </p:spPr>
        </p:pic>
        <p:pic>
          <p:nvPicPr>
            <p:cNvPr id="196" name="" descr=""/>
            <p:cNvPicPr/>
            <p:nvPr/>
          </p:nvPicPr>
          <p:blipFill>
            <a:blip r:embed="rId23"/>
            <a:stretch/>
          </p:blipFill>
          <p:spPr>
            <a:xfrm>
              <a:off x="18569160" y="8153280"/>
              <a:ext cx="5052960" cy="3632400"/>
            </a:xfrm>
            <a:prstGeom prst="rect">
              <a:avLst/>
            </a:prstGeom>
            <a:ln w="38160">
              <a:solidFill>
                <a:srgbClr val="008100"/>
              </a:solidFill>
              <a:miter/>
            </a:ln>
          </p:spPr>
        </p:pic>
        <p:pic>
          <p:nvPicPr>
            <p:cNvPr id="197" name="" descr=""/>
            <p:cNvPicPr/>
            <p:nvPr/>
          </p:nvPicPr>
          <p:blipFill>
            <a:blip r:embed="rId24"/>
            <a:stretch/>
          </p:blipFill>
          <p:spPr>
            <a:xfrm>
              <a:off x="23979240" y="9702720"/>
              <a:ext cx="5052960" cy="3632400"/>
            </a:xfrm>
            <a:prstGeom prst="rect">
              <a:avLst/>
            </a:prstGeom>
            <a:ln w="38160">
              <a:solidFill>
                <a:srgbClr val="008100"/>
              </a:solidFill>
              <a:miter/>
            </a:ln>
          </p:spPr>
        </p:pic>
        <p:sp>
          <p:nvSpPr>
            <p:cNvPr id="198" name=""/>
            <p:cNvSpPr/>
            <p:nvPr/>
          </p:nvSpPr>
          <p:spPr>
            <a:xfrm flipV="1">
              <a:off x="19964520" y="12572640"/>
              <a:ext cx="457200" cy="762120"/>
            </a:xfrm>
            <a:prstGeom prst="line">
              <a:avLst/>
            </a:prstGeom>
            <a:ln w="57240">
              <a:solidFill>
                <a:srgbClr val="008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2936320" y="15468480"/>
              <a:ext cx="990360" cy="152640"/>
            </a:xfrm>
            <a:prstGeom prst="line">
              <a:avLst/>
            </a:prstGeom>
            <a:ln w="57240">
              <a:solidFill>
                <a:srgbClr val="008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2021920" y="12573000"/>
              <a:ext cx="1904760" cy="1905120"/>
            </a:xfrm>
            <a:prstGeom prst="line">
              <a:avLst/>
            </a:prstGeom>
            <a:ln w="57240">
              <a:solidFill>
                <a:srgbClr val="008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0574000" y="11810880"/>
              <a:ext cx="304920" cy="533520"/>
            </a:xfrm>
            <a:prstGeom prst="line">
              <a:avLst/>
            </a:prstGeom>
            <a:ln w="57240">
              <a:solidFill>
                <a:srgbClr val="008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974800" y="13944600"/>
              <a:ext cx="1371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/NDF = 89.1/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974800" y="9982080"/>
              <a:ext cx="1371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/NDF = 72.6/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540960" y="8458200"/>
              <a:ext cx="1371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/NDF = 59.4/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09400" y="1623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0-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204120" y="122680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0-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770280" y="8763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80-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256640" y="8191440"/>
              <a:ext cx="533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167560" y="8191440"/>
              <a:ext cx="533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577640" y="9753480"/>
              <a:ext cx="533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660600" y="9753480"/>
              <a:ext cx="533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77640" y="13716000"/>
              <a:ext cx="5335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660600" y="13716000"/>
              <a:ext cx="5335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RIKEN]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Quark Matter 2004, Orkland January 11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07:40:30Z</dcterms:created>
  <dc:creator>Akio Kiyomichi</dc:creator>
  <dc:description/>
  <dc:language>en-US</dc:language>
  <cp:lastModifiedBy>Akio Kiyomichi</cp:lastModifiedBy>
  <cp:lastPrinted>2004-01-10T08:08:45Z</cp:lastPrinted>
  <dcterms:modified xsi:type="dcterms:W3CDTF">2004-01-10T08:16:58Z</dcterms:modified>
  <cp:revision>390</cp:revision>
  <dc:subject>Hadron PWG</dc:subject>
  <dc:title>PID Simulation</dc:title>
</cp:coreProperties>
</file>